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23F-DD79-49A5-8C24-A2784516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D5E-CB1C-4C6B-800D-5A5AC57C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16F-C7B8-435B-BC42-D5772790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ABC-10F6-41B1-BE7A-12ED1899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8D3-7011-416E-A9DE-963A5D05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6AD-5D0E-4C06-994F-E60E3DAD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BE8-DC35-4475-B8FB-41A18FDB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B11-3E43-4BFE-8B02-44C02ED0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AE0-4764-4AE1-8320-0E7D402A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A8D-D36F-4B54-BBB8-ACF87142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A40-E144-458A-BDF2-BAFC6489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E69-D54F-4DEA-99D5-3A46C3EA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3BC7-5EB4-41EB-A34E-764B1B38FC59}" type="slidenum">
              <a:rPr b="0" lang="en-US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75040" y="304920"/>
            <a:ext cx="4145040" cy="624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re SI Prefix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Symb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F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161120" y="93600"/>
          <a:ext cx="180036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1120" y="93600"/>
                    <a:ext cx="18003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8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swer should be rounded off to the same number of significant digits as the measurement with the least number of significant digi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4 X 6.5 = 15.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ct answer is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391520" y="585720"/>
          <a:ext cx="143352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85720"/>
                    <a:ext cx="14335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3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4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notation - an expression of numbers as powers of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93,000,000 in scientific no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93,000,00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5029200"/>
          <a:ext cx="221292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29200"/>
                    <a:ext cx="221292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0.000 000 000 189 in scientific no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.000 000 000 189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311960" y="152280"/>
          <a:ext cx="183204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1960" y="152280"/>
                    <a:ext cx="183204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5" dur="1" fill="hold"/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Lab Report Format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0 pts-due next class meeting after lab is complet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067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on completion of each experiment, you will turn in  a lab report using the following format.  The report will be referred to as a ppoc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urpose - usually one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rocedure - steps which will duplicate what you have done, you may use diagra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- Observation - includes data (use data table when possible) and calcul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 - Conclusion - what you learned, possible reasons for error, suggestions for improvement and opin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rived Un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unit - a unit obtained by combinations of fundamental un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 volume 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= l X w X 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(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(cm) X (cm) X (c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29200" y="380880"/>
          <a:ext cx="39574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80880"/>
                    <a:ext cx="3957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nsity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- the mass per unit volume of a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= mass/volu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= m(g) / V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mL) = m(g) / V(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g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(g/L) = m(g) / V(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283360" y="14400"/>
          <a:ext cx="185400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14400"/>
                    <a:ext cx="185400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Density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  Calculate the density of 10g of a material occupying a volume of 2.5mL.  (10 p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m/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 = 10g, V = 2.5mL     5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10g / 2.5m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2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4       g/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pt)     (2pt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3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75440" y="0"/>
          <a:ext cx="11685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5440" y="0"/>
                    <a:ext cx="1168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80" dur="1" fill="hold"/>
                                  <p:tgtEl>
                                    <p:spTgt spid="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ccuracy and Prec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uracy - the nearness of a measurement to an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ion - the agreement between a set of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4100400"/>
          <a:ext cx="7848720" cy="25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00400"/>
                    <a:ext cx="784872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do we measure accuracy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 Err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%E = ------------ X 10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observ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-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 you performed an experiment and found the volume of a 10g sample of aluminum to be 3.5m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density of the sample using your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cepted density of aluminum is 2.7g/mL.  Calculate the percentage error of your measur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761840"/>
            <a:ext cx="77630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rules are used to determine the number of significant dig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onzero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All final zeros after the decimal point are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Zeros between two other significant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Zeros used solely for spacing the decimal point are not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715000" y="457200"/>
          <a:ext cx="316404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57200"/>
                    <a:ext cx="31640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nswer should be rounded off so that the final digit is in the same place as the leftmost uncertain dig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.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4.5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.44.......the correct answer is 39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86600" y="762120"/>
          <a:ext cx="15224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15224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1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3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4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7T13:46:12Z</dcterms:created>
  <dc:creator>Charles Allen Lee</dc:creator>
  <dc:description/>
  <dc:language>en-US</dc:language>
  <cp:lastModifiedBy>clee</cp:lastModifiedBy>
  <dcterms:modified xsi:type="dcterms:W3CDTF">2009-08-19T11:46:58Z</dcterms:modified>
  <cp:revision>21</cp:revision>
  <dc:subject/>
  <dc:title>Chemsitry I</dc:title>
</cp:coreProperties>
</file>