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BA36-3E79-445D-AAA0-62D17BF0C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3964320"/>
            <a:ext cx="853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12CC-3CB5-4E14-A3E7-9E9711081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416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D093-03BE-4782-8CBD-57E6F451E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6280" y="160020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51680" y="160020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396432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6280" y="396432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51680" y="396432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7343-B34C-4A4A-80ED-33D2A4768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90360" y="27432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CA64-033C-48ED-AE7A-3B93E894B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5416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964320"/>
            <a:ext cx="853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964320"/>
            <a:ext cx="853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5416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66280" y="160020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51680" y="160020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96432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66280" y="396432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51680" y="396432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1003-0DCF-4F6D-A481-71733D4C0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CD23-F4B0-441A-BEA1-446E6A328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49BF-A8C2-4249-8B87-B6C11AACD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27432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2898-8E75-408F-BC1F-347B4E745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D2D7-EC3F-4828-A40E-66D882FD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416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3118-26AE-4F79-A097-581B6E2D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3964320"/>
            <a:ext cx="853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EC96-8714-4B71-B2EC-616AFF01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758880" cy="1143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62320" y="6552720"/>
            <a:ext cx="4952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120" y="6552720"/>
            <a:ext cx="1676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96731-2C11-4E00-A4E4-50F18C113342}" type="slidenum">
              <a:rPr b="0" lang="en-US" sz="14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3962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5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775040" y="304920"/>
            <a:ext cx="4145040" cy="6248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More SI Prefixes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i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Symbo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Fac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g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il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t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l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n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c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7161120" y="93600"/>
          <a:ext cx="1800360" cy="89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1120" y="93600"/>
                    <a:ext cx="1800360" cy="8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4" dur="1" fill="hold"/>
                                  <p:tgtEl>
                                    <p:spTgt spid="81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Operations With Significant Digits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ltiplication and Divi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answer should be rounded off to the same number of significant digits as the measurement with the least number of significant digit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34 X 6.5 = 15.2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orrect answer is 1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7391520" y="585720"/>
          <a:ext cx="1433520" cy="14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1520" y="585720"/>
                    <a:ext cx="1433520" cy="14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6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2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5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8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2" dur="1" fill="hold"/>
                                  <p:tgtEl>
                                    <p:spTgt spid="1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  <p:animClr clrSpc="rgb">
                                <p:cBhvr>
                                  <p:cTn id="363" dur="1" fill="hold"/>
                                  <p:tgtEl>
                                    <p:spTgt spid="11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  <p:animClr clrSpc="rgb">
                                <p:cBhvr>
                                  <p:cTn id="364" dur="1" fill="hold"/>
                                  <p:tgtEl>
                                    <p:spTgt spid="11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Scientific Notation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ientific notation - an expression of numbers as powers of 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ress 93,000,000 in scientific not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93,000,000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28600" y="5029200"/>
          <a:ext cx="2212920" cy="13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5029200"/>
                    <a:ext cx="2212920" cy="13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9" dur="1" fill="hold"/>
                                  <p:tgtEl>
                                    <p:spTgt spid="11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Scientific Notation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ress 0.000 000 000 189 in scientific notatio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0.000 000 000 189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311960" y="152280"/>
          <a:ext cx="183204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11960" y="152280"/>
                    <a:ext cx="183204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96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01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5" dur="1" fill="hold"/>
                                  <p:tgtEl>
                                    <p:spTgt spid="12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Arial"/>
              </a:rPr>
              <a:t>Lab Report Format</a:t>
            </a:r>
            <a:br>
              <a:rPr sz="2400"/>
            </a:b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40 pts-due next class meeting after lab is completed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06768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pon completion of each experiment, you will turn in  a lab report using the following format.  The report will be referred to as a ppoc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 - Purpose - usually one statemen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 - Procedure - steps which will duplicate what you have done, you may use diagra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 - Observation - includes data (use data table when possible) and calcul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 - Conclusion - what you learned, possible reasons for error, suggestions for improvement and opin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9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5" dur="2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7" dur="1" fill="hold"/>
                                  <p:tgtEl>
                                    <p:spTgt spid="12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Derived Units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rived unit - a unit obtained by combinations of fundamental uni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- volume (c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 = l X w X 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(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= (cm) X (cm) X (cm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c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1m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029200" y="380880"/>
          <a:ext cx="3957480" cy="102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80880"/>
                    <a:ext cx="3957480" cy="10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  <p:animClr clrSpc="rgb">
                                <p:cBhvr>
                                  <p:cTn id="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  <p:animClr clrSpc="rgb"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4" dur="1" fill="hold"/>
                                  <p:tgtEl>
                                    <p:spTgt spid="8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Density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nsity - the mass per unit volume of a materi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nsity = mass/volum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(g/c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= m(g) / V(c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(g/mL) = m(g) / V(mL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ga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(g/L) = m(g) / V(L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5283360" y="14400"/>
          <a:ext cx="1854000" cy="15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3360" y="14400"/>
                    <a:ext cx="1854000" cy="15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7" dur="1" fill="hold"/>
                                  <p:tgtEl>
                                    <p:spTgt spid="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  <p:animClr clrSpc="rgb">
                                <p:cBhvr>
                                  <p:cTn id="148" dur="1" fill="hold"/>
                                  <p:tgtEl>
                                    <p:spTgt spid="8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Sample Density Problem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lem:  Calculate the density of 10g of a material occupying a volume of 2.5mL.  (10 pt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 = m/V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m = 10g, V = 2.5mL     5 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 = 10g / 2.5m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2 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 = 4       g/m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1pt)     (2pts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3p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975440" y="0"/>
          <a:ext cx="1168560" cy="14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75440" y="0"/>
                    <a:ext cx="116856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5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6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2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5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9" dur="1" fill="hold"/>
                                  <p:tgtEl>
                                    <p:spTgt spid="9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  <p:animClr clrSpc="rgb">
                                <p:cBhvr>
                                  <p:cTn id="180" dur="1" fill="hold"/>
                                  <p:tgtEl>
                                    <p:spTgt spid="9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Accuracy and Precision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uracy - the nearness of a measurement to an accepted val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cision - the agreement between a set of measur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57200" y="4100400"/>
          <a:ext cx="7848720" cy="25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100400"/>
                    <a:ext cx="7848720" cy="25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8" dur="1" fill="hold"/>
                                  <p:tgtEl>
                                    <p:spTgt spid="9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How do we measure accuracy?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centage Err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 - A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%E = ------------ X 100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 - observed val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- accepted val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5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77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4" dur="77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6" dur="77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8" dur="77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Sample Problem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ose you performed an experiment and found the volume of a 10g sample of aluminum to be 3.5mL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culate the density of the sample using your dat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accepted density of aluminum is 2.7g/mL.  Calculate the percentage error of your measurement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Significant Digits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95280" y="1761840"/>
            <a:ext cx="7763040" cy="418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ollowing rules are used to determine the number of significant digit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 Nonzero digits are always significan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 All final zeros after the decimal point are significan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 Zeros between two other significant digits are always significan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 Zeros used solely for spacing the decimal point are not significan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715000" y="457200"/>
          <a:ext cx="3164040" cy="88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457200"/>
                    <a:ext cx="316404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0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6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2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2" dur="1" fill="hold"/>
                                  <p:tgtEl>
                                    <p:spTgt spid="10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Operations With Significant Digits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ition and Subtra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answer should be rounded off so that the final digit is in the same place as the leftmost uncertain digi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4.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+4.54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9.44.......the correct answer is 39.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7086600" y="762120"/>
          <a:ext cx="1522440" cy="133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762120"/>
                    <a:ext cx="1522440" cy="13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  <p:animClr clrSpc="rgb">
                                <p:cBhvr>
                                  <p:cTn id="3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1" dur="1" fill="hold"/>
                                  <p:tgtEl>
                                    <p:spTgt spid="10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  <p:animClr clrSpc="rgb">
                                <p:cBhvr>
                                  <p:cTn id="332" dur="1" fill="hold"/>
                                  <p:tgtEl>
                                    <p:spTgt spid="10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  <p:animClr clrSpc="rgb">
                                <p:cBhvr>
                                  <p:cTn id="333" dur="1" fill="hold"/>
                                  <p:tgtEl>
                                    <p:spTgt spid="10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  <p:animClr clrSpc="rgb">
                                <p:cBhvr>
                                  <p:cTn id="334" dur="1" fill="hold"/>
                                  <p:tgtEl>
                                    <p:spTgt spid="10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0-27T13:46:12Z</dcterms:created>
  <dc:creator>Charles Allen Lee</dc:creator>
  <dc:description/>
  <dc:language>en-US</dc:language>
  <cp:lastModifiedBy>clee</cp:lastModifiedBy>
  <dcterms:modified xsi:type="dcterms:W3CDTF">2009-08-19T11:46:58Z</dcterms:modified>
  <cp:revision>21</cp:revision>
  <dc:subject/>
  <dc:title>Chemsitry I</dc:title>
</cp:coreProperties>
</file>