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001D-5470-4FE3-AEDE-CB9DCD0B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8DB-8867-4792-BD2D-F23D35AD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0A2-0465-4A2F-96DD-8A7E689F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D21-632A-41CA-8076-F436F556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276-EBE1-4A60-A51D-857F0B1B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70D-53AB-4104-B8D5-0ADC24EF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AB4-AD66-474D-97B2-F7430E2F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C9B-907A-4AB4-9026-F9929D0D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31E-7BC9-4964-A27D-BA68EC77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3162-5843-4FB5-B9A7-CDC30150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66E-0D38-4B3A-B6CA-B2ED4AF9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A3D-BBC2-4AF2-9A5F-875ADCC7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5888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62320" y="655272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F5BE-8932-4CB8-8B77-5795ECC8F67D}" type="slidenum">
              <a:rPr b="0" lang="en-US" sz="14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3962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775040" y="304920"/>
            <a:ext cx="4145040" cy="624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ore SI Prefix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Symb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Fa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g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161120" y="93600"/>
          <a:ext cx="1800360" cy="8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1120" y="93600"/>
                    <a:ext cx="180036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8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rations With 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nswer should be rounded off to the same number of significant digits as the measurement with the least number of significant digi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4 X 6.5 = 15.2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rrect answer is 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391520" y="585720"/>
          <a:ext cx="143352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585720"/>
                    <a:ext cx="143352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7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48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49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cientific Nota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notation - an expression of numbers as powers of 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 93,000,000 in scientific no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93,000,00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5029200"/>
          <a:ext cx="221292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029200"/>
                    <a:ext cx="221292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cientific Nota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 0.000 000 000 189 in scientific not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0.000 000 000 189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311960" y="152280"/>
          <a:ext cx="183204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1960" y="152280"/>
                    <a:ext cx="183204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0" dur="1" fill="hold"/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Lab Report Format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0 pts-due next class meeting after lab is complete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0676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pon completion of each experiment, you will turn in  a lab report using the following format.  The report will be referred to as a ppoc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 - Purpose - usually one stat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 - Procedure - steps which will duplicate what you have done, you may use diagra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- Observation - includes data (use data table when possible) and calcul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 - Conclusion - what you learned, possible reasons for error, suggestions for improvement and opin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1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erived Un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ived unit - a unit obtained by combinations of fundamental un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- volume (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 = l X w X 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(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(cm) X (cm) X (c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029200" y="380880"/>
          <a:ext cx="395748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80880"/>
                    <a:ext cx="39574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fill="hold"/>
                                  <p:tgtEl>
                                    <p:spTgt spid="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ensity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- the mass per unit volume of a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= mass/volu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(g/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= m(g) / V(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(g/mL) = m(g) / V(m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g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(g/L) = m(g) / V(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283360" y="14400"/>
          <a:ext cx="185400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3360" y="14400"/>
                    <a:ext cx="185400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48" dur="1" fill="hold"/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ample Density Problem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:  Calculate the density of 10g of a material occupying a volume of 2.5mL.  (10 p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m/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m = 10g, V = 2.5mL     5 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10g / 2.5m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2 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4       g/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pt)     (2pts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3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975440" y="0"/>
          <a:ext cx="116856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5440" y="0"/>
                    <a:ext cx="11685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1" fill="hold"/>
                                  <p:tgtEl>
                                    <p:spTgt spid="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80" dur="1" fill="hold"/>
                                  <p:tgtEl>
                                    <p:spTgt spid="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Accuracy and Precis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uracy - the nearness of a measurement to an accept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sion - the agreement between a set of measu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4100400"/>
          <a:ext cx="7848720" cy="25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00400"/>
                    <a:ext cx="7848720" cy="25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How do we measure accuracy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age Err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- 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%E = ------------ X 10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- observ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- accept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ample Problem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se you performed an experiment and found the volume of a 10g sample of aluminum to be 3.5m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the density of the sample using your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cepted density of aluminum is 2.7g/mL.  Calculate the percentage error of your measur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761840"/>
            <a:ext cx="776304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llowing rules are used to determine the number of significant digi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Nonzero digits are always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All final zeros after the decimal point are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Zeros between two other significant digits are always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Zeros used solely for spacing the decimal point are not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715000" y="457200"/>
          <a:ext cx="316404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57200"/>
                    <a:ext cx="31640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7" dur="1" fill="hold"/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rations With 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nswer should be rounded off so that the final digit is in the same place as the leftmost uncertain dig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.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+4.5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.44.......the correct answer is 39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086600" y="762120"/>
          <a:ext cx="152244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762120"/>
                    <a:ext cx="15224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17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18" dur="1" fill="hold"/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19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7T13:46:12Z</dcterms:created>
  <dc:creator>Charles Allen Lee</dc:creator>
  <dc:description/>
  <dc:language>en-US</dc:language>
  <cp:lastModifiedBy>clee</cp:lastModifiedBy>
  <dcterms:modified xsi:type="dcterms:W3CDTF">2009-08-19T11:46:58Z</dcterms:modified>
  <cp:revision>21</cp:revision>
  <dc:subject/>
  <dc:title>Chemsitry I</dc:title>
</cp:coreProperties>
</file>