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3BF-3888-4ABB-9329-F54CB406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888-7BDB-4067-8544-4B1EAC6C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C09-843E-4460-A739-848B31BD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D65-AB76-4654-B8E6-97E21744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A55-9C49-440A-8EC7-4E41E2C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160-DB7F-41ED-B00A-73E22B97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375-EEA6-483C-9C94-39A751F0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58E-E538-4170-B05C-FDBAEE4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B73-F27B-47D5-91FE-00C7F911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30A-4F9C-4721-8A9D-D19D3BAC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858-3397-4192-B282-42165C1C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2C5-CC69-4DBC-8EF0-C532C4B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9A3C-BC4F-4390-9C32-56206AA78BBD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75040" y="304920"/>
            <a:ext cx="4145040" cy="62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SI Prefix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61120" y="93600"/>
          <a:ext cx="1800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1120" y="93600"/>
                    <a:ext cx="1800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should be rounded off to the same number of significant digits as the measurement with the least number of significant digi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4 X 6.5 = 1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answer is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391520" y="585720"/>
          <a:ext cx="14335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85720"/>
                    <a:ext cx="1433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1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2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3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notation - an expression of numbers as powers of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93,000,000 in scientific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3,000,00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5029200"/>
          <a:ext cx="2212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29200"/>
                    <a:ext cx="2212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0.000 000 000 189 in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.000 000 000 189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11960" y="152280"/>
          <a:ext cx="183204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1960" y="152280"/>
                    <a:ext cx="183204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4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ab Report Format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0 pts-due next class meeting after lab is comple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on completion of each experiment, you will turn in  a lab report using the following format.  The report will be referred to as a ppoc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urpose - usually one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rocedure - steps which will duplicate what you have done, you may use diagra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- Observation - includes data (use data table when possible) and calcu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 - Conclusion - what you learned, possible reasons for error, suggestions for improvement and opin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rived Un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unit - a unit obtained by combinations of fundamental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volume 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l X w X 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(cm) X (cm) X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29200" y="380880"/>
          <a:ext cx="39574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957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nsit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- the mass per unit volume of a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= mass/vol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= m(g) / V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mL) = m(g) / V(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g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g/L) = m(g) / V(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83360" y="14400"/>
          <a:ext cx="18540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4400"/>
                    <a:ext cx="18540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Density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 Calculate the density of 10g of a material occupying a volume of 2.5mL.  (10 p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m/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 = 10g, V = 2.5mL     5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10g / 2.5m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2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4       g/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pt)     (2pt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3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75440" y="0"/>
          <a:ext cx="1168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0"/>
                    <a:ext cx="1168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80" dur="1" fill="hold"/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curacy and Prec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- the nearness of a measurement to an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- the agreement between a set of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4100400"/>
          <a:ext cx="7848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0400"/>
                    <a:ext cx="7848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do we measure accurac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E = ------------ X 10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observ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you performed an experiment and found the volume of a 10g sample of aluminum to be 3.5m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density of the sample using your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epted density of aluminum is 2.7g/mL.  Calculate the percentage error of your measur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76184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rules are used to determine the number of 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onzero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ll final zeros after the decimal point are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Zeros between two other significant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Zeros used solely for spacing the decimal point are not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5000" y="457200"/>
          <a:ext cx="3164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3164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swer should be rounded off so that the final digit is in the same place as the leftmost uncertain dig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4.5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.44.......the correct answer is 39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6600" y="762120"/>
          <a:ext cx="15224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152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1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2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3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7T13:46:12Z</dcterms:created>
  <dc:creator>Charles Allen Lee</dc:creator>
  <dc:description/>
  <dc:language>en-US</dc:language>
  <cp:lastModifiedBy>clee</cp:lastModifiedBy>
  <dcterms:modified xsi:type="dcterms:W3CDTF">2009-08-19T11:46:58Z</dcterms:modified>
  <cp:revision>21</cp:revision>
  <dc:subject/>
  <dc:title>Chemsitry I</dc:title>
</cp:coreProperties>
</file>