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NEWPhysical 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8" descr="help button"/>
          <p:cNvPicPr/>
          <p:nvPr/>
        </p:nvPicPr>
        <p:blipFill>
          <a:blip r:embed="rId3"/>
          <a:stretch/>
        </p:blipFill>
        <p:spPr>
          <a:xfrm>
            <a:off x="457200" y="6292800"/>
            <a:ext cx="457200" cy="438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0" descr="chapter resources"/>
          <p:cNvPicPr/>
          <p:nvPr/>
        </p:nvPicPr>
        <p:blipFill>
          <a:blip r:embed="rId4"/>
          <a:stretch/>
        </p:blipFill>
        <p:spPr>
          <a:xfrm>
            <a:off x="1682640" y="6372360"/>
            <a:ext cx="1676520" cy="3031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1" descr="back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4038480" y="6343560"/>
            <a:ext cx="300240" cy="304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2" descr="home"/>
          <p:cNvPicPr/>
          <p:nvPr/>
        </p:nvPicPr>
        <p:blipFill>
          <a:blip r:embed="rId6"/>
          <a:stretch/>
        </p:blipFill>
        <p:spPr>
          <a:xfrm>
            <a:off x="4414680" y="6345360"/>
            <a:ext cx="304920" cy="3031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3" descr="next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4795920" y="6343560"/>
            <a:ext cx="304560" cy="300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5" descr="end"/>
          <p:cNvPicPr/>
          <p:nvPr/>
        </p:nvPicPr>
        <p:blipFill>
          <a:blip r:embed="rId8"/>
          <a:stretch/>
        </p:blipFill>
        <p:spPr>
          <a:xfrm>
            <a:off x="8215200" y="6286680"/>
            <a:ext cx="486000" cy="44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7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8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9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1.wav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10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11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2.wav" TargetMode="External"/><Relationship Id="rId2" Type="http://schemas.openxmlformats.org/officeDocument/2006/relationships/image" Target="../media/image9.jpeg"/><Relationship Id="rId3" Type="http://schemas.openxmlformats.org/officeDocument/2006/relationships/hyperlink" Target="file:///tmp/home/.config/libreoffice/4/user/gallery/708_03.wav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12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13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14.wav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15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4.wav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5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6.wav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6" descr="GPE_SE-smaller"/>
          <p:cNvPicPr/>
          <p:nvPr/>
        </p:nvPicPr>
        <p:blipFill>
          <a:blip r:embed="rId1"/>
          <a:stretch/>
        </p:blipFill>
        <p:spPr>
          <a:xfrm>
            <a:off x="2666880" y="685800"/>
            <a:ext cx="40244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533520" y="1282680"/>
            <a:ext cx="35812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pecific heat of a material can be measured using a device called a calorimeter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33520" y="3660840"/>
            <a:ext cx="36576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 calorimeter, a heated sample transfers thermal energy to a known mass of wa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596960" y="633240"/>
            <a:ext cx="4978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easuring Specific He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9" descr="p259 figure 4"/>
          <p:cNvPicPr/>
          <p:nvPr/>
        </p:nvPicPr>
        <p:blipFill>
          <a:blip r:embed="rId1"/>
          <a:stretch/>
        </p:blipFill>
        <p:spPr>
          <a:xfrm>
            <a:off x="4191120" y="1447920"/>
            <a:ext cx="45385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596960" y="633240"/>
            <a:ext cx="4978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easuring Specific He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33520" y="1469880"/>
            <a:ext cx="342900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hermal energy released by the sample is equal to the thermal energy absorbed by the wa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9" descr="p259 figure 4"/>
          <p:cNvPicPr/>
          <p:nvPr/>
        </p:nvPicPr>
        <p:blipFill>
          <a:blip r:embed="rId1"/>
          <a:stretch/>
        </p:blipFill>
        <p:spPr>
          <a:xfrm>
            <a:off x="4191120" y="1447920"/>
            <a:ext cx="45385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593640" y="1554120"/>
            <a:ext cx="778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is temperature related to kinetic energy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09480" y="1163520"/>
            <a:ext cx="8153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erature is a measure of the average kinetic energy of the particles in an object or material. As the temperature increases, the average speed of the particles increas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760040" y="65412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10" descr="p256 figure 2"/>
          <p:cNvPicPr/>
          <p:nvPr/>
        </p:nvPicPr>
        <p:blipFill>
          <a:blip r:embed="rId1"/>
          <a:stretch/>
        </p:blipFill>
        <p:spPr>
          <a:xfrm>
            <a:off x="2133720" y="3168720"/>
            <a:ext cx="487656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93640" y="1523880"/>
            <a:ext cx="641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es thermal energy differ from kinetic energy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1760040" y="337644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593640" y="4145040"/>
            <a:ext cx="794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mal energy is the sum of the kinetic and potential energy of all the particles in an objec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593640" y="1447920"/>
            <a:ext cx="794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mount of heat that is needed to raise the temperature of 1 kg of a material by 1º C is called the __________ of the materia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600120" y="3368520"/>
            <a:ext cx="412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n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 specific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 thermal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93640" y="1542960"/>
            <a:ext cx="763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C. Specific heat is measured in joules/kilogram °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533520" y="2003400"/>
            <a:ext cx="37335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articles of a solid are packed closely together and are constantly vibrating in pla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1596240" y="633240"/>
            <a:ext cx="44082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Four States of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533520" y="4518000"/>
            <a:ext cx="80769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tractions between particles are strong and solids have a fixed volume and sha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1620720" y="131904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Solid St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15" descr="p260 figure 5 square"/>
          <p:cNvPicPr/>
          <p:nvPr/>
        </p:nvPicPr>
        <p:blipFill>
          <a:blip r:embed="rId1"/>
          <a:stretch/>
        </p:blipFill>
        <p:spPr>
          <a:xfrm>
            <a:off x="4495680" y="1509840"/>
            <a:ext cx="403884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33520" y="1430280"/>
            <a:ext cx="38098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tractive forces are strong enough to cause particles to cling togeth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595160" y="633240"/>
            <a:ext cx="2606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Liquid St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533520" y="3984480"/>
            <a:ext cx="37335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quids have a definite volume, but not a definite sha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9" descr="p260 figure 5 square"/>
          <p:cNvPicPr/>
          <p:nvPr/>
        </p:nvPicPr>
        <p:blipFill>
          <a:blip r:embed="rId1"/>
          <a:stretch/>
        </p:blipFill>
        <p:spPr>
          <a:xfrm>
            <a:off x="4495680" y="1509840"/>
            <a:ext cx="403884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533520" y="1469880"/>
            <a:ext cx="38098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 gas the forces between particles are so weak that the particles no longer cling togeth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595520" y="633240"/>
            <a:ext cx="2047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as St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533520" y="4003560"/>
            <a:ext cx="36576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ses do not have a definite shape or volu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9" descr="p260 figure 5 square"/>
          <p:cNvPicPr/>
          <p:nvPr/>
        </p:nvPicPr>
        <p:blipFill>
          <a:blip r:embed="rId1"/>
          <a:stretch/>
        </p:blipFill>
        <p:spPr>
          <a:xfrm>
            <a:off x="4495680" y="1509840"/>
            <a:ext cx="403884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9"/>
          <p:cNvSpPr/>
          <p:nvPr/>
        </p:nvSpPr>
        <p:spPr>
          <a:xfrm>
            <a:off x="3266280" y="0"/>
            <a:ext cx="25855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Rectangle 23"/>
          <p:cNvSpPr/>
          <p:nvPr/>
        </p:nvSpPr>
        <p:spPr>
          <a:xfrm>
            <a:off x="1676520" y="60948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hapter: Heat and St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cca22"/>
                </a:solidFill>
                <a:latin typeface="Times New Roman"/>
              </a:rPr>
              <a:t>of </a:t>
            </a: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24"/>
          <p:cNvSpPr/>
          <p:nvPr/>
        </p:nvSpPr>
        <p:spPr>
          <a:xfrm>
            <a:off x="1803240" y="3306600"/>
            <a:ext cx="642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bfb"/>
                </a:solidFill>
                <a:latin typeface="Times New Roman"/>
              </a:rPr>
              <a:t>Section 2:  States of Ma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25"/>
          <p:cNvSpPr/>
          <p:nvPr/>
        </p:nvSpPr>
        <p:spPr>
          <a:xfrm>
            <a:off x="1803240" y="198108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bfb"/>
                </a:solidFill>
                <a:latin typeface="Times New Roman"/>
              </a:rPr>
              <a:t>Section 1: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erature an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mal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26"/>
          <p:cNvSpPr/>
          <p:nvPr/>
        </p:nvSpPr>
        <p:spPr>
          <a:xfrm>
            <a:off x="1800360" y="4205160"/>
            <a:ext cx="681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bfb"/>
                </a:solidFill>
                <a:latin typeface="Times New Roman"/>
              </a:rPr>
              <a:t>Section 3:  Transferring Thermal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27"/>
          <p:cNvSpPr/>
          <p:nvPr/>
        </p:nvSpPr>
        <p:spPr>
          <a:xfrm>
            <a:off x="1800360" y="4983120"/>
            <a:ext cx="642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bfb"/>
                </a:solidFill>
                <a:latin typeface="Times New Roman"/>
              </a:rPr>
              <a:t>Section 4:  Using Thermal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33520" y="1374840"/>
            <a:ext cx="6400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st common state of matter in the universe is the plasma stat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595520" y="633240"/>
            <a:ext cx="2707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Plasma St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533520" y="2631960"/>
            <a:ext cx="76197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Plasm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matter consisting of positively and negatively charged particles and does not have a definite shape or volu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7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97680" y="3603600"/>
            <a:ext cx="3938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533520" y="2308320"/>
            <a:ext cx="7238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emperature at which a solid begins to melt is its melting poi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594440" y="633240"/>
            <a:ext cx="3370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hanging St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533520" y="3470400"/>
            <a:ext cx="74674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mount of energy required to change 1 kg of a substance from a solid to a liquid at its melting point is known as 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heat of fus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602720" y="1471680"/>
            <a:ext cx="1703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el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8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54280" y="4878360"/>
            <a:ext cx="3938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33520" y="1447920"/>
            <a:ext cx="74674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eat of fusion is also the energy released when a liquid freez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1596600" y="633240"/>
            <a:ext cx="1879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Freez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533520" y="268920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tractive forces are strong enough that the particles form an ordered arrange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533520" y="1447920"/>
            <a:ext cx="7162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porization occurs as liquid changes into a ga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595520" y="633240"/>
            <a:ext cx="2745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Vaporiz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533520" y="2689200"/>
            <a:ext cx="70866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porization that occurs at the surface of a liquid is called evapo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530280" y="3908520"/>
            <a:ext cx="67086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aporation causes the temperature of the liquid to decre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533520" y="1432080"/>
            <a:ext cx="80769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iling point of a liquid is the temperature at which the pressure of the vapor in the liquid is equal to the external pressure acting on its surfa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595880" y="633240"/>
            <a:ext cx="15768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Boil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533520" y="3470400"/>
            <a:ext cx="731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heat of vaporiz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amount of energy required for 1 kg of the liquid at its boiling point to become a g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7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5400" y="4448160"/>
            <a:ext cx="39348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533520" y="128592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eat of vaporization is also the amount of energy released during condensatio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1594440" y="633240"/>
            <a:ext cx="2875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dens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533520" y="2346480"/>
            <a:ext cx="304776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graph shows the temperature change of water as thermal energy is add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9" descr="p263 graph"/>
          <p:cNvPicPr/>
          <p:nvPr/>
        </p:nvPicPr>
        <p:blipFill>
          <a:blip r:embed="rId1"/>
          <a:stretch/>
        </p:blipFill>
        <p:spPr>
          <a:xfrm>
            <a:off x="3962520" y="2587680"/>
            <a:ext cx="464796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533520" y="1413000"/>
            <a:ext cx="69339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verage kinetic energy of the water molecules doesn’t chang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594440" y="633240"/>
            <a:ext cx="2875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dens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533520" y="2631960"/>
            <a:ext cx="3429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emperature remains constant during melt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9" descr="p263 graph"/>
          <p:cNvPicPr/>
          <p:nvPr/>
        </p:nvPicPr>
        <p:blipFill>
          <a:blip r:embed="rId1"/>
          <a:stretch/>
        </p:blipFill>
        <p:spPr>
          <a:xfrm>
            <a:off x="3962520" y="2587680"/>
            <a:ext cx="464796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594440" y="633240"/>
            <a:ext cx="2875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dens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Picture 8" descr="p263 graph"/>
          <p:cNvPicPr/>
          <p:nvPr/>
        </p:nvPicPr>
        <p:blipFill>
          <a:blip r:embed="rId1"/>
          <a:stretch/>
        </p:blipFill>
        <p:spPr>
          <a:xfrm>
            <a:off x="3962520" y="2587680"/>
            <a:ext cx="4647960" cy="327960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11"/>
          <p:cNvGrpSpPr/>
          <p:nvPr/>
        </p:nvGrpSpPr>
        <p:grpSpPr>
          <a:xfrm>
            <a:off x="533520" y="1459080"/>
            <a:ext cx="6858000" cy="2312640"/>
            <a:chOff x="533520" y="1459080"/>
            <a:chExt cx="6858000" cy="2312640"/>
          </a:xfrm>
        </p:grpSpPr>
        <p:sp>
          <p:nvSpPr>
            <p:cNvPr id="193" name="Text Box 7"/>
            <p:cNvSpPr/>
            <p:nvPr/>
          </p:nvSpPr>
          <p:spPr>
            <a:xfrm>
              <a:off x="533520" y="2362320"/>
              <a:ext cx="3429000" cy="14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28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tabLst>
                  <a:tab algn="l" pos="0"/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of the gas increases as energy is added.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Text Box 9"/>
            <p:cNvSpPr/>
            <p:nvPr/>
          </p:nvSpPr>
          <p:spPr>
            <a:xfrm>
              <a:off x="533520" y="1459080"/>
              <a:ext cx="685800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fter the liquid water has changed completely into a gas, the temperatu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533520" y="1957320"/>
            <a:ext cx="74674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reased separation between the particles results in the expansion of the object and the size of the object increas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1595160" y="633240"/>
            <a:ext cx="4054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rmal Expan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533520" y="347040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 material cools, the particles in the material move more slowly and become closer toge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1594440" y="1319040"/>
            <a:ext cx="6910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Thermal Expansion of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33520" y="1424160"/>
            <a:ext cx="6248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orces between the particles in liquids are weaker than the forces between the particles in a soli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1594800" y="633240"/>
            <a:ext cx="6163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rmal Expansion of Liqui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533520" y="3089160"/>
            <a:ext cx="6705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ame temperature increase usually causes liquids to expand much more than soli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054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056"/>
          <p:cNvSpPr/>
          <p:nvPr/>
        </p:nvSpPr>
        <p:spPr>
          <a:xfrm>
            <a:off x="533520" y="114300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tion of the particles in matter is described by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kinetic theo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matter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2057"/>
          <p:cNvSpPr/>
          <p:nvPr/>
        </p:nvSpPr>
        <p:spPr>
          <a:xfrm>
            <a:off x="533520" y="2057400"/>
            <a:ext cx="320040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ter is composed of particles that are atoms, molecules, or ions that always are in random mo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2058"/>
          <p:cNvSpPr/>
          <p:nvPr/>
        </p:nvSpPr>
        <p:spPr>
          <a:xfrm>
            <a:off x="1597320" y="633240"/>
            <a:ext cx="5117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Kinetic Theory of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2059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2061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2600" y="1685880"/>
            <a:ext cx="393480" cy="368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64" descr="MAC OSX sm button"/>
          <p:cNvPicPr/>
          <p:nvPr/>
        </p:nvPicPr>
        <p:blipFill>
          <a:blip r:embed="rId3"/>
          <a:stretch/>
        </p:blipFill>
        <p:spPr>
          <a:xfrm>
            <a:off x="8077320" y="2050920"/>
            <a:ext cx="672840" cy="3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cmFlash320"/>
          <p:cNvGraphicFramePr/>
          <p:nvPr/>
        </p:nvGraphicFramePr>
        <p:xfrm>
          <a:off x="3809880" y="2438280"/>
          <a:ext cx="4572000" cy="3391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cmFlash32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2438280"/>
                    <a:ext cx="4572000" cy="33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533520" y="1413000"/>
            <a:ext cx="69339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 gas, the forces between particles are much weaker than they are in liquid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1595160" y="633240"/>
            <a:ext cx="5807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rmal Expansion of Ga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533520" y="3070080"/>
            <a:ext cx="7010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ses expand even more than liquids for the same increase in tempera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1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93640" y="1447920"/>
            <a:ext cx="824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_____ is a state of matter consisting of positively and negatively charged particles that exists where the temperature is extremely high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600120" y="3398760"/>
            <a:ext cx="267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 G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 Liqu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 Plas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 Soli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593640" y="1554120"/>
            <a:ext cx="748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C. Plasma is found in the Sun, stars, lightning bolts and neon light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758240" y="831960"/>
            <a:ext cx="2047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cca22"/>
                </a:solidFill>
                <a:latin typeface="Times New Roman"/>
              </a:rPr>
              <a:t>Question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593640" y="155412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__________ materials have a specific type of geometric arrangeme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598320" y="3276720"/>
            <a:ext cx="2525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 gase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 ine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 liqu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 soli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609480" y="17226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D. The particles in most solids align themselves in ordered geometric patter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1760040" y="91440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593640" y="1447920"/>
            <a:ext cx="794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mount of energy required to change 1 kg of a substance from a solid to a liquid at its melting point is known as the 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598320" y="3475080"/>
            <a:ext cx="4507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 heat of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 heat of 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 heat of mel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 heat of vap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593640" y="1554120"/>
            <a:ext cx="778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rrect answer is B. Heat of fusion causes an ice cube to become liquid wat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6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Ways to Transfer Thermal Ener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533520" y="223524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transfer of thermal energy between colliding particles is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conduc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Picture 11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40480" y="2781360"/>
            <a:ext cx="393840" cy="36828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2"/>
          <p:cNvSpPr/>
          <p:nvPr/>
        </p:nvSpPr>
        <p:spPr>
          <a:xfrm>
            <a:off x="533520" y="339408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netic energy is transferred when these faster-moving atoms collide with slower-moving partic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1568520" y="1471680"/>
            <a:ext cx="277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du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0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rmal Conduct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33520" y="14731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ate at which thermal energy is transferred depends on the mater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533520" y="2631960"/>
            <a:ext cx="6629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aterial in which thermal energy is transferred easily is called a thermal conduc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533520" y="4308480"/>
            <a:ext cx="7162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ses are poorer thermal conductors than solids or liqui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v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533520" y="1488960"/>
            <a:ext cx="74674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Convec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transfer of thermal energy in a fluid by the movement of fluid from place to pl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533520" y="312732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fluid expands as its temperature increa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533520" y="390852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ensity of the fluid therefore decrea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Picture 8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30800" y="2471760"/>
            <a:ext cx="39348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0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2"/>
          <p:cNvSpPr/>
          <p:nvPr/>
        </p:nvSpPr>
        <p:spPr>
          <a:xfrm>
            <a:off x="533520" y="1374840"/>
            <a:ext cx="6781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temperatu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 substance is a measure of the average kinetic energy of its particles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533520" y="3051000"/>
            <a:ext cx="7162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I unit for temperature is 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Kelv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K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24"/>
          <p:cNvSpPr/>
          <p:nvPr/>
        </p:nvSpPr>
        <p:spPr>
          <a:xfrm>
            <a:off x="1596240" y="633240"/>
            <a:ext cx="27698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empera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25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Picture 28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2344680"/>
            <a:ext cx="393840" cy="368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9" descr="MiddleSchoolAudi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35160" y="3581280"/>
            <a:ext cx="3938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v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533520" y="1488960"/>
            <a:ext cx="6172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armer water is less dense and is forced upward by the sinking cooler wa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533520" y="3165480"/>
            <a:ext cx="5105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arm water transfers thermal energy to the cooler water around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Picture 10" descr="p267 figure 14"/>
          <p:cNvPicPr/>
          <p:nvPr/>
        </p:nvPicPr>
        <p:blipFill>
          <a:blip r:embed="rId1"/>
          <a:stretch/>
        </p:blipFill>
        <p:spPr>
          <a:xfrm>
            <a:off x="5794200" y="2438280"/>
            <a:ext cx="28926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0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v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533520" y="1469880"/>
            <a:ext cx="5257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e warm water cools, it becomes denser than the surrounding water and sin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533520" y="3089160"/>
            <a:ext cx="5105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ising and sinking water forms a convection curr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Picture 9" descr="p267 figure 14"/>
          <p:cNvPicPr/>
          <p:nvPr/>
        </p:nvPicPr>
        <p:blipFill>
          <a:blip r:embed="rId1"/>
          <a:stretch/>
        </p:blipFill>
        <p:spPr>
          <a:xfrm>
            <a:off x="5794200" y="2438280"/>
            <a:ext cx="28926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0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Radi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533520" y="1488960"/>
            <a:ext cx="6553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Radi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transfer of energy by electromagnetic wav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533520" y="270828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ation can pass through solids, liquids, and gases, but the transfer of energy by radiation is most important in ga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Picture 7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7480" y="2036880"/>
            <a:ext cx="3938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Radi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533520" y="1508040"/>
            <a:ext cx="53337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radiation strikes a material, some energy is absorbed, some is reflected, and some may be transmitted through the mater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7" descr="p269 figure 16"/>
          <p:cNvPicPr/>
          <p:nvPr/>
        </p:nvPicPr>
        <p:blipFill>
          <a:blip r:embed="rId1"/>
          <a:stretch/>
        </p:blipFill>
        <p:spPr>
          <a:xfrm>
            <a:off x="4876920" y="723960"/>
            <a:ext cx="34574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rmal Insulat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533520" y="1508040"/>
            <a:ext cx="7315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aterial in which thermal energy moves slowly is a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thermal insulat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533520" y="2689200"/>
            <a:ext cx="7543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erials that are good conductors of thermal energy, such as metals are poor thermal insula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Picture 7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26280" y="2048040"/>
            <a:ext cx="3938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593640" y="1554120"/>
            <a:ext cx="748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cribe the difference between conduction and convectio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609480" y="1295280"/>
            <a:ext cx="4191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duction transfers thermal energy without transferring matter. In convection, the more energetic particles move from one place to anoth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1760040" y="68580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Picture 10" descr="p267 figure 14"/>
          <p:cNvPicPr/>
          <p:nvPr/>
        </p:nvPicPr>
        <p:blipFill>
          <a:blip r:embed="rId1"/>
          <a:stretch/>
        </p:blipFill>
        <p:spPr>
          <a:xfrm>
            <a:off x="5057640" y="685800"/>
            <a:ext cx="3413160" cy="411480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11"/>
          <p:cNvSpPr/>
          <p:nvPr/>
        </p:nvSpPr>
        <p:spPr>
          <a:xfrm>
            <a:off x="5029200" y="478944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vection currents result when heated fluid rises and cooler fluid sink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0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593640" y="1447920"/>
            <a:ext cx="672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______ is the transfer of energy by electromagnetic wav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1760040" y="33004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13"/>
          <p:cNvSpPr/>
          <p:nvPr/>
        </p:nvSpPr>
        <p:spPr>
          <a:xfrm>
            <a:off x="593640" y="3962520"/>
            <a:ext cx="7178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ransfer of energy by electromagnetic waves is radiation. Radiation is how Earth gets heat from the Su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0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593640" y="1447920"/>
            <a:ext cx="733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is the least effective insulator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598320" y="3124080"/>
            <a:ext cx="275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 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 fiberg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 me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 w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0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593640" y="1542960"/>
            <a:ext cx="786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C. Metals are good conductors of heat. And heat flows more rapidly in the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0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omparison of Temperature Scale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320" y="1980720"/>
            <a:ext cx="899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renhei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Celsi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Kelv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p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1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7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.t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7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2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95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.p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3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7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bs 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45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-27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degree measure of Celsius is equal to one degree measure of Kelv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1570320" y="685800"/>
            <a:ext cx="70128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First Law of Thermodynamic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533520" y="1219320"/>
            <a:ext cx="80769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rding to 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first law of thermodynamic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the increase in thermal energy of a system equals the work done on the system plus the thermal energy transferred to the syste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2966760" y="0"/>
            <a:ext cx="32104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Us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33520" y="3479760"/>
            <a:ext cx="3962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rease in energy of a system equals the energy added to the syste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7" name="Picture 8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63760" y="3076560"/>
            <a:ext cx="393840" cy="368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9" descr="p274 figure 20"/>
          <p:cNvPicPr/>
          <p:nvPr/>
        </p:nvPicPr>
        <p:blipFill>
          <a:blip r:embed="rId3"/>
          <a:stretch/>
        </p:blipFill>
        <p:spPr>
          <a:xfrm>
            <a:off x="4794120" y="3048120"/>
            <a:ext cx="29019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0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3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568880" y="685800"/>
            <a:ext cx="5225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losed and Open Sys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533520" y="148896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ystem is an open system if thermal energy flows across the boundary or if work is done across the boundar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2966760" y="0"/>
            <a:ext cx="32104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Us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33520" y="3165480"/>
            <a:ext cx="70866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no thermal energy flows across the boundary and no outside work is done, the system is a closed syste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0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5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1542960" y="685800"/>
            <a:ext cx="56199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Second Law of Thermodynamic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533520" y="2022480"/>
            <a:ext cx="7391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second law of thermodynamic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tates it is impossible for thermal energy to flow from a cool object to a warmer object unless work is don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2966760" y="0"/>
            <a:ext cx="32104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Us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8" name="Picture 6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5480" y="3429000"/>
            <a:ext cx="3938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nodeType="clickEffect" fill="hold">
                      <p:stCondLst>
                        <p:cond delay="0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542960" y="685800"/>
            <a:ext cx="56199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verting Thermal Energy to Wor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533520" y="2022480"/>
            <a:ext cx="6629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device or process can convert thermal energy completely into work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2966760" y="0"/>
            <a:ext cx="32104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Us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0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533520" y="1219320"/>
            <a:ext cx="71625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m of the kinetic and potential energies of all the particles in an object is 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thermal energ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the object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33520" y="2701800"/>
            <a:ext cx="350496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rease in an object’s speed doesn’t affect the random motion of its particles, so it doesn’t affect its thermal energ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1596240" y="633240"/>
            <a:ext cx="34178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rmal Ener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8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21360" y="2189160"/>
            <a:ext cx="393840" cy="368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p256 figure 2"/>
          <p:cNvPicPr/>
          <p:nvPr/>
        </p:nvPicPr>
        <p:blipFill>
          <a:blip r:embed="rId3"/>
          <a:stretch/>
        </p:blipFill>
        <p:spPr>
          <a:xfrm>
            <a:off x="4114800" y="3016080"/>
            <a:ext cx="46483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33520" y="144792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He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rmal energy that flows from something at a higher temperature to something at a lower temperature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33520" y="3070080"/>
            <a:ext cx="7238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t is a form of energy, so it is measured in jou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595880" y="633240"/>
            <a:ext cx="1119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He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Picture 7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16800" y="2427120"/>
            <a:ext cx="393480" cy="3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533520" y="1290600"/>
            <a:ext cx="457200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mount of thermal energy needed to raise the temperature of 1 kg of some material by 1°C is called 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specific he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the material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33520" y="4098960"/>
            <a:ext cx="4114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 heat is measured in joules per kilogram per degree Celsi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596600" y="633240"/>
            <a:ext cx="2756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Specific He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7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06760" y="3581280"/>
            <a:ext cx="393840" cy="368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p257 table 1"/>
          <p:cNvPicPr/>
          <p:nvPr/>
        </p:nvPicPr>
        <p:blipFill>
          <a:blip r:embed="rId3"/>
          <a:stretch/>
        </p:blipFill>
        <p:spPr>
          <a:xfrm>
            <a:off x="5143680" y="1600200"/>
            <a:ext cx="361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595520" y="633240"/>
            <a:ext cx="570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hanges in Thermal Ener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10" descr="eq 6"/>
          <p:cNvPicPr/>
          <p:nvPr/>
        </p:nvPicPr>
        <p:blipFill>
          <a:blip r:embed="rId1"/>
          <a:stretch/>
        </p:blipFill>
        <p:spPr>
          <a:xfrm>
            <a:off x="457200" y="1771560"/>
            <a:ext cx="82296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4T15:26:19Z</dcterms:created>
  <dc:creator>Cherie Hatton</dc:creator>
  <dc:description/>
  <dc:language>en-US</dc:language>
  <cp:lastModifiedBy>Lee, Charles - HS Chemistry/Physics Teacher</cp:lastModifiedBy>
  <dcterms:modified xsi:type="dcterms:W3CDTF">2015-10-29T15:14:43Z</dcterms:modified>
  <cp:revision>505</cp:revision>
  <dc:subject/>
  <dc:title>Slide 1</dc:title>
</cp:coreProperties>
</file>