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NEWPhysical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" descr="help button"/>
          <p:cNvPicPr/>
          <p:nvPr/>
        </p:nvPicPr>
        <p:blipFill>
          <a:blip r:embed="rId3"/>
          <a:stretch/>
        </p:blipFill>
        <p:spPr>
          <a:xfrm>
            <a:off x="457200" y="62928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" descr="chapter resources"/>
          <p:cNvPicPr/>
          <p:nvPr/>
        </p:nvPicPr>
        <p:blipFill>
          <a:blip r:embed="rId4"/>
          <a:stretch/>
        </p:blipFill>
        <p:spPr>
          <a:xfrm>
            <a:off x="1682640" y="6372360"/>
            <a:ext cx="1676520" cy="30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1" descr="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38480" y="6343560"/>
            <a:ext cx="300240" cy="304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2" descr="home"/>
          <p:cNvPicPr/>
          <p:nvPr/>
        </p:nvPicPr>
        <p:blipFill>
          <a:blip r:embed="rId6"/>
          <a:stretch/>
        </p:blipFill>
        <p:spPr>
          <a:xfrm>
            <a:off x="4414680" y="634536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3" descr="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795920" y="6343560"/>
            <a:ext cx="304560" cy="300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5" descr="end"/>
          <p:cNvPicPr/>
          <p:nvPr/>
        </p:nvPicPr>
        <p:blipFill>
          <a:blip r:embed="rId8"/>
          <a:stretch/>
        </p:blipFill>
        <p:spPr>
          <a:xfrm>
            <a:off x="8215200" y="6286680"/>
            <a:ext cx="48600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7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8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9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1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0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1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2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708_03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2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3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6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GPE_SE-smaller"/>
          <p:cNvPicPr/>
          <p:nvPr/>
        </p:nvPicPr>
        <p:blipFill>
          <a:blip r:embed="rId1"/>
          <a:stretch/>
        </p:blipFill>
        <p:spPr>
          <a:xfrm>
            <a:off x="2666880" y="685800"/>
            <a:ext cx="4024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82680"/>
            <a:ext cx="3581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cific heat of a material can be measured using a device called a calorime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36608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calorimeter, a heated sample transfers thermal energy to a known mass of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1469880"/>
            <a:ext cx="3429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rmal energy released by the sample is equal to the thermal energy absorbed by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3640" y="1554120"/>
            <a:ext cx="77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is temperature related to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1635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is a measure of the average kinetic energy of the particles in an object or material. As the temperature increases, the average speed of the particles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760040" y="65412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0" descr="p256 figure 2"/>
          <p:cNvPicPr/>
          <p:nvPr/>
        </p:nvPicPr>
        <p:blipFill>
          <a:blip r:embed="rId1"/>
          <a:stretch/>
        </p:blipFill>
        <p:spPr>
          <a:xfrm>
            <a:off x="2133720" y="3168720"/>
            <a:ext cx="4876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93640" y="152388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rmal energy differ from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760040" y="33764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3640" y="414504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 is the sum of the kinetic and potential energy of all the particles in an objec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heat that is needed to raise the temperature of 1 kg of a material by 1º C is called the __________ of the mater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00120" y="3368520"/>
            <a:ext cx="412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specific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3640" y="15429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Specific heat is measured in joules/kilogram °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33520" y="2003400"/>
            <a:ext cx="37335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cles of a solid are packed closely together and are constantly vibrating in pl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96240" y="633240"/>
            <a:ext cx="440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ur States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33520" y="45180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ons between particles are strong and solids have a fixed volume an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620720" y="131904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5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14302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o cause particles to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95160" y="633240"/>
            <a:ext cx="260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Liqu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3984480"/>
            <a:ext cx="37335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have a definite volume, but not a definite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3520" y="14698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 the forces between particles are so weak that the particles no longer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95520" y="633240"/>
            <a:ext cx="204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as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400356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do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3266280" y="0"/>
            <a:ext cx="2585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676520" y="609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pter: Heat an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03240" y="330660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2: 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1803240" y="1981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1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1800360" y="4205160"/>
            <a:ext cx="68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3:  Transferr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800360" y="498312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4:  Us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37484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state of matter in the universe is the plasma st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95520" y="633240"/>
            <a:ext cx="270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lasma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3520" y="263196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tter consisting of positively and negatively charged particles and does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97680" y="36036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2308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at which a solid begins to melt is its melting poi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94440" y="633240"/>
            <a:ext cx="337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ing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3520" y="34704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602720" y="1471680"/>
            <a:ext cx="170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4280" y="487836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3520" y="14479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fusion is also the energy released when a liquid freez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96600" y="633240"/>
            <a:ext cx="187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reez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26892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hat the particles form an ordered arrang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3520" y="144792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occurs as liquid changes into a 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95520" y="633240"/>
            <a:ext cx="274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Vapor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33520" y="2689200"/>
            <a:ext cx="7086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that occurs at the surface of a liquid is called eva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0280" y="3908520"/>
            <a:ext cx="670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 causes the temperature of the liquid to de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32080"/>
            <a:ext cx="8076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iling point of a liquid is the temperature at which the pressure of the vapor in the liquid is equal to the external pressure acting on its surf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95880" y="633240"/>
            <a:ext cx="157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i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347040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vapo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mount of energy required for 1 kg of the liquid at its boiling point to become a g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5400" y="44481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3520" y="1285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vaporization is also the amount of energy released during conden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2346480"/>
            <a:ext cx="3047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e temperature change of water as thermal energy is ad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1413000"/>
            <a:ext cx="6933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verage kinetic energy of the water molecules doesn’t chan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263196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remains constant during mel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533520" y="1459080"/>
            <a:ext cx="6858000" cy="2312640"/>
            <a:chOff x="533520" y="1459080"/>
            <a:chExt cx="6858000" cy="2312640"/>
          </a:xfrm>
        </p:grpSpPr>
        <p:sp>
          <p:nvSpPr>
            <p:cNvPr id="193" name="Text Box 7"/>
            <p:cNvSpPr/>
            <p:nvPr/>
          </p:nvSpPr>
          <p:spPr>
            <a:xfrm>
              <a:off x="533520" y="2362320"/>
              <a:ext cx="342900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28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f the gas increases as energy is added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33520" y="1459080"/>
              <a:ext cx="6858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fter the liquid water has changed completely into a gas, the temperatu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195732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d separation between the particles results in the expansion of the object and the size of the object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595160" y="633240"/>
            <a:ext cx="405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3520" y="3470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material cools, the particles in the material move more slowly and become closer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94440" y="1319040"/>
            <a:ext cx="6910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Thermal Expansion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1424160"/>
            <a:ext cx="6248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s between the particles in liquids are weaker than the forces between the particles in a sol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94800" y="633240"/>
            <a:ext cx="6163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89160"/>
            <a:ext cx="6705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temperature increase usually causes liquids to expand much more than sol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5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056"/>
          <p:cNvSpPr/>
          <p:nvPr/>
        </p:nvSpPr>
        <p:spPr>
          <a:xfrm>
            <a:off x="533520" y="11430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tion of the particles in matter is described b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inetic the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mat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057"/>
          <p:cNvSpPr/>
          <p:nvPr/>
        </p:nvSpPr>
        <p:spPr>
          <a:xfrm>
            <a:off x="533520" y="205740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composed of particles that are atoms, molecules, or ions that always are in random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058"/>
          <p:cNvSpPr/>
          <p:nvPr/>
        </p:nvSpPr>
        <p:spPr>
          <a:xfrm>
            <a:off x="1597320" y="633240"/>
            <a:ext cx="51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Kinetic Theory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059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206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2600" y="168588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64" descr="MAC OSX sm button"/>
          <p:cNvPicPr/>
          <p:nvPr/>
        </p:nvPicPr>
        <p:blipFill>
          <a:blip r:embed="rId3"/>
          <a:stretch/>
        </p:blipFill>
        <p:spPr>
          <a:xfrm>
            <a:off x="8077320" y="2050920"/>
            <a:ext cx="672840" cy="3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cmFlash320"/>
          <p:cNvGraphicFramePr/>
          <p:nvPr/>
        </p:nvGraphicFramePr>
        <p:xfrm>
          <a:off x="3809880" y="2438280"/>
          <a:ext cx="4572000" cy="339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cmFlash3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438280"/>
                    <a:ext cx="457200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3520" y="1413000"/>
            <a:ext cx="6933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, the forces between particles are much weaker than they are in liqui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595160" y="63324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G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3520" y="30700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expand even more than liquids for the same increase 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3640" y="1447920"/>
            <a:ext cx="82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 is a state of matter consisting of positively and negatively charged particles that exists where the temperature is extremely hig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00120" y="3398760"/>
            <a:ext cx="267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Pl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Plasma is found in the Sun, stars, lightning bolts and neon ligh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58240" y="831960"/>
            <a:ext cx="2047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93640" y="15541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__________ materials have a specific type of geometric arran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98320" y="3276720"/>
            <a:ext cx="252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in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09480" y="1722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The particles in most solids align themselves in ordered geometric patter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98320" y="3475080"/>
            <a:ext cx="450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heat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heat of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heat of me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heat of vap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3640" y="15541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rect answer is B. Heat of fusion causes an ice cube to become liquid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ays to Transfer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ansfer of thermal energy between colliding particles i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du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1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0480" y="2781360"/>
            <a:ext cx="393840" cy="36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533520" y="3394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energy is transferred when these faster-moving atoms collide with slower-moving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568520" y="1471680"/>
            <a:ext cx="277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Condu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4731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at which thermal energy is transferred depends on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520" y="263196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is transferred easily is called a thermal cond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520" y="430848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are poorer thermal conductors than solids or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33520" y="148896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v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thermal energy in a fluid by the movement of fluid from place to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3520" y="31273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luid expands as its temperature in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39085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nsity of the fluid therefore de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30800" y="24717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2"/>
          <p:cNvSpPr/>
          <p:nvPr/>
        </p:nvSpPr>
        <p:spPr>
          <a:xfrm>
            <a:off x="533520" y="137484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ubstance is a measure of the average kinetic energy of its particl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533520" y="305100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 unit for temperature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elv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596240" y="633240"/>
            <a:ext cx="2769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3446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MiddleSchoolAudi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35812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20" y="1488960"/>
            <a:ext cx="6172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er water is less dense and is forced upward by the sinking cooler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33520" y="31654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 water transfers thermal energy to the cooler water arou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1469880"/>
            <a:ext cx="525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arm water cools, it becomes denser than the surrounding water and s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3520" y="308916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ing and sinking water forms a convection cur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9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33520" y="1488960"/>
            <a:ext cx="655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ad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energy by electromagnetic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33520" y="2708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can pass through solids, liquids, and gases, but the transfer of energy by radiation is most important in g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0368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1508040"/>
            <a:ext cx="5333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ation strikes a material, some energy is absorbed, some is reflected, and some may be transmitted through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p269 figure 16"/>
          <p:cNvPicPr/>
          <p:nvPr/>
        </p:nvPicPr>
        <p:blipFill>
          <a:blip r:embed="rId1"/>
          <a:stretch/>
        </p:blipFill>
        <p:spPr>
          <a:xfrm>
            <a:off x="4876920" y="723960"/>
            <a:ext cx="3457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Insu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1508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moves slowly is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insula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26892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erials that are good conductors of thermal energy, such as metals are poor thermal insul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6280" y="204804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difference between conduction and conv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09480" y="12952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on transfers thermal energy without transferring matter. In convection, the more energetic particles move from one place to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760040" y="6858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0" descr="p267 figure 14"/>
          <p:cNvPicPr/>
          <p:nvPr/>
        </p:nvPicPr>
        <p:blipFill>
          <a:blip r:embed="rId1"/>
          <a:stretch/>
        </p:blipFill>
        <p:spPr>
          <a:xfrm>
            <a:off x="5057640" y="685800"/>
            <a:ext cx="341316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5029200" y="47894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currents result when heated fluid rises and cooler fluid sin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3640" y="1447920"/>
            <a:ext cx="67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 is the transfer of energy by electromagnetic w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76004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593640" y="396252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fer of energy by electromagnetic waves is radiation. Radiation is how Earth gets heat from the Su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93640" y="14479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he least effective insulato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598320" y="3124080"/>
            <a:ext cx="275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fiberg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93640" y="154296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Metals are good conductors of heat. And heat flows more rapidly in th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parison of Temperature Scal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enhe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Celsi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.t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45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-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egree measure of Celsius is equal to one degree measure of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70320" y="685800"/>
            <a:ext cx="701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First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520" y="1219320"/>
            <a:ext cx="80769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irst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 increase in thermal energy of a system equals the work done on the system plus the thermal energy transferr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33520" y="347976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energy of a system equals the energy add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3760" y="30765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p274 figure 20"/>
          <p:cNvPicPr/>
          <p:nvPr/>
        </p:nvPicPr>
        <p:blipFill>
          <a:blip r:embed="rId3"/>
          <a:stretch/>
        </p:blipFill>
        <p:spPr>
          <a:xfrm>
            <a:off x="4794120" y="3048120"/>
            <a:ext cx="290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568880" y="685800"/>
            <a:ext cx="52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losed and Open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4889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is an open system if thermal energy flows across the boundary or if work is done across the bounda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3520" y="3165480"/>
            <a:ext cx="7086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thermal energy flows across the boundary and no outside work is done, the system is a clos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Second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33520" y="2022480"/>
            <a:ext cx="7391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econd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s it is impossible for thermal energy to flow from a cool object to a warmer object unless work is d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6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5480" y="34290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0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rting Thermal Energy to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3520" y="202248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evice or process can convert thermal energy completely into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kinetic and potential energies of all the particles in an object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ener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objec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2701800"/>
            <a:ext cx="3504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an object’s speed doesn’t affect the random motion of its particles, so it doesn’t affect its thermal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596240" y="633240"/>
            <a:ext cx="3417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21891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256 figure 2"/>
          <p:cNvPicPr/>
          <p:nvPr/>
        </p:nvPicPr>
        <p:blipFill>
          <a:blip r:embed="rId3"/>
          <a:stretch/>
        </p:blipFill>
        <p:spPr>
          <a:xfrm>
            <a:off x="4114800" y="3016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rmal energy that flows from something at a higher temperature to something at a lower temperatur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0700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is a form of energy, so it is measured in jo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95880" y="633240"/>
            <a:ext cx="111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16800" y="2427120"/>
            <a:ext cx="39348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290600"/>
            <a:ext cx="4572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thermal energy needed to raise the temperature of 1 kg of some material by 1°C is called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teria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4098960"/>
            <a:ext cx="4114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heat is measured in joules per kilogram per degree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596600" y="633240"/>
            <a:ext cx="2756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5812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257 table 1"/>
          <p:cNvPicPr/>
          <p:nvPr/>
        </p:nvPicPr>
        <p:blipFill>
          <a:blip r:embed="rId3"/>
          <a:stretch/>
        </p:blipFill>
        <p:spPr>
          <a:xfrm>
            <a:off x="5143680" y="1600200"/>
            <a:ext cx="361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595520" y="633240"/>
            <a:ext cx="570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es in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eq 6"/>
          <p:cNvPicPr/>
          <p:nvPr/>
        </p:nvPicPr>
        <p:blipFill>
          <a:blip r:embed="rId1"/>
          <a:stretch/>
        </p:blipFill>
        <p:spPr>
          <a:xfrm>
            <a:off x="457200" y="1771560"/>
            <a:ext cx="8229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Lee, Charles - HS Chemistry/Physics Teacher</cp:lastModifiedBy>
  <dcterms:modified xsi:type="dcterms:W3CDTF">2015-10-29T15:14:43Z</dcterms:modified>
  <cp:revision>505</cp:revision>
  <dc:subject/>
  <dc:title>Slide 1</dc:title>
</cp:coreProperties>
</file>