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NEWPhysical 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8" descr="help button"/>
          <p:cNvPicPr/>
          <p:nvPr/>
        </p:nvPicPr>
        <p:blipFill>
          <a:blip r:embed="rId3"/>
          <a:stretch/>
        </p:blipFill>
        <p:spPr>
          <a:xfrm>
            <a:off x="457200" y="6292800"/>
            <a:ext cx="457200" cy="438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0" descr="chapter resources"/>
          <p:cNvPicPr/>
          <p:nvPr/>
        </p:nvPicPr>
        <p:blipFill>
          <a:blip r:embed="rId4"/>
          <a:stretch/>
        </p:blipFill>
        <p:spPr>
          <a:xfrm>
            <a:off x="1682640" y="6372360"/>
            <a:ext cx="1676520" cy="303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1" descr="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4038480" y="6343560"/>
            <a:ext cx="300240" cy="304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2" descr="home"/>
          <p:cNvPicPr/>
          <p:nvPr/>
        </p:nvPicPr>
        <p:blipFill>
          <a:blip r:embed="rId6"/>
          <a:stretch/>
        </p:blipFill>
        <p:spPr>
          <a:xfrm>
            <a:off x="4414680" y="6345360"/>
            <a:ext cx="304920" cy="3031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3" descr="next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4795920" y="6343560"/>
            <a:ext cx="304560" cy="300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5" descr="end"/>
          <p:cNvPicPr/>
          <p:nvPr/>
        </p:nvPicPr>
        <p:blipFill>
          <a:blip r:embed="rId8"/>
          <a:stretch/>
        </p:blipFill>
        <p:spPr>
          <a:xfrm>
            <a:off x="8215200" y="6286680"/>
            <a:ext cx="486000" cy="44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7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8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9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1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0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1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2.wav" TargetMode="External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708_03.wav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2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3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4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5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4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5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6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" descr="GPE_SE-smaller"/>
          <p:cNvPicPr/>
          <p:nvPr/>
        </p:nvPicPr>
        <p:blipFill>
          <a:blip r:embed="rId1"/>
          <a:stretch/>
        </p:blipFill>
        <p:spPr>
          <a:xfrm>
            <a:off x="2666880" y="685800"/>
            <a:ext cx="4024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3520" y="1282680"/>
            <a:ext cx="35812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ecific heat of a material can be measured using a device called a calorime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3520" y="36608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calorimeter, a heated sample transfers thermal energy to a known mass of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596960" y="633240"/>
            <a:ext cx="497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asuring 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9" descr="p259 figure 4"/>
          <p:cNvPicPr/>
          <p:nvPr/>
        </p:nvPicPr>
        <p:blipFill>
          <a:blip r:embed="rId1"/>
          <a:stretch/>
        </p:blipFill>
        <p:spPr>
          <a:xfrm>
            <a:off x="4191120" y="1447920"/>
            <a:ext cx="453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596960" y="633240"/>
            <a:ext cx="497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asuring 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520" y="1469880"/>
            <a:ext cx="34290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ermal energy released by the sample is equal to the thermal energy absorbed by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9" descr="p259 figure 4"/>
          <p:cNvPicPr/>
          <p:nvPr/>
        </p:nvPicPr>
        <p:blipFill>
          <a:blip r:embed="rId1"/>
          <a:stretch/>
        </p:blipFill>
        <p:spPr>
          <a:xfrm>
            <a:off x="4191120" y="1447920"/>
            <a:ext cx="453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93640" y="1554120"/>
            <a:ext cx="77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is temperature related to kinetic energ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09480" y="116352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is a measure of the average kinetic energy of the particles in an object or material. As the temperature increases, the average speed of the particles incre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760040" y="65412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10" descr="p256 figure 2"/>
          <p:cNvPicPr/>
          <p:nvPr/>
        </p:nvPicPr>
        <p:blipFill>
          <a:blip r:embed="rId1"/>
          <a:stretch/>
        </p:blipFill>
        <p:spPr>
          <a:xfrm>
            <a:off x="2133720" y="3168720"/>
            <a:ext cx="4876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93640" y="1523880"/>
            <a:ext cx="641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ermal energy differ from kinetic energ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760040" y="337644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93640" y="414504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ergy is the sum of the kinetic and potential energy of all the particles in an objec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93640" y="144792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heat that is needed to raise the temperature of 1 kg of a material by 1º C is called the __________ of the materi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00120" y="3368520"/>
            <a:ext cx="412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specific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93640" y="154296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Specific heat is measured in joules/kilogram °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33520" y="2003400"/>
            <a:ext cx="37335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articles of a solid are packed closely together and are constantly vibrating in pl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596240" y="633240"/>
            <a:ext cx="4408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our States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533520" y="4518000"/>
            <a:ext cx="8076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ons between particles are strong and solids have a fixed volume and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620720" y="131904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olid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5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143028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ve forces are strong enough to cause particles to cling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595160" y="633240"/>
            <a:ext cx="260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Liquid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3520" y="3984480"/>
            <a:ext cx="37335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quids have a definite volume, but not a definite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9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3520" y="146988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gas the forces between particles are so weak that the particles no longer cling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95520" y="633240"/>
            <a:ext cx="204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as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3520" y="4003560"/>
            <a:ext cx="3657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do not have a definite shape or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9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3266280" y="0"/>
            <a:ext cx="25855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1676520" y="6094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pter: Heat and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of 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1803240" y="3306600"/>
            <a:ext cx="64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2:  States of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1803240" y="19810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1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1800360" y="4205160"/>
            <a:ext cx="681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3:  Transferring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1800360" y="4983120"/>
            <a:ext cx="64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4:  Using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137484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state of matter in the universe is the plasma sta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95520" y="633240"/>
            <a:ext cx="270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Plasma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33520" y="263196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Plas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tter consisting of positively and negatively charged particles and does not have a definite shape or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97680" y="360360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33520" y="2308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mperature at which a solid begins to melt is its melting poi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94440" y="633240"/>
            <a:ext cx="337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nging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33520" y="34704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energy required to change 1 kg of a substance from a solid to a liquid at its melting point is known a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 of fu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602720" y="1471680"/>
            <a:ext cx="1703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l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54280" y="487836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33520" y="14479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t of fusion is also the energy released when a liquid freez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596600" y="633240"/>
            <a:ext cx="187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reez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33520" y="26892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ve forces are strong enough that the particles form an ordered arrang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33520" y="144792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porization occurs as liquid changes into a g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595520" y="633240"/>
            <a:ext cx="2745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Vapor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33520" y="2689200"/>
            <a:ext cx="7086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porization that occurs at the surface of a liquid is called evapo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30280" y="3908520"/>
            <a:ext cx="6708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poration causes the temperature of the liquid to decr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33520" y="1432080"/>
            <a:ext cx="8076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iling point of a liquid is the temperature at which the pressure of the vapor in the liquid is equal to the external pressure acting on its surf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595880" y="633240"/>
            <a:ext cx="1576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il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3520" y="347040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 of vapor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amount of energy required for 1 kg of the liquid at its boiling point to become a g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5400" y="4448160"/>
            <a:ext cx="3934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3520" y="1285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t of vaporization is also the amount of energy released during conden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33520" y="2346480"/>
            <a:ext cx="3047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graph shows the temperature change of water as thermal energy is ad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9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33520" y="1413000"/>
            <a:ext cx="6933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verage kinetic energy of the water molecules doesn’t chan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33520" y="2631960"/>
            <a:ext cx="3429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mperature remains constant during mel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9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8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1"/>
          <p:cNvGrpSpPr/>
          <p:nvPr/>
        </p:nvGrpSpPr>
        <p:grpSpPr>
          <a:xfrm>
            <a:off x="533520" y="1459080"/>
            <a:ext cx="6858000" cy="2312640"/>
            <a:chOff x="533520" y="1459080"/>
            <a:chExt cx="6858000" cy="2312640"/>
          </a:xfrm>
        </p:grpSpPr>
        <p:sp>
          <p:nvSpPr>
            <p:cNvPr id="193" name="Text Box 7"/>
            <p:cNvSpPr/>
            <p:nvPr/>
          </p:nvSpPr>
          <p:spPr>
            <a:xfrm>
              <a:off x="533520" y="2362320"/>
              <a:ext cx="342900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28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f the gas increases as energy is added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533520" y="1459080"/>
              <a:ext cx="6858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fter the liquid water has changed completely into a gas, the temperatu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3520" y="195732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d separation between the particles results in the expansion of the object and the size of the object incre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595160" y="633240"/>
            <a:ext cx="4054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3520" y="34704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material cools, the particles in the material move more slowly and become closer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594440" y="1319040"/>
            <a:ext cx="6910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Thermal Expansion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33520" y="1424160"/>
            <a:ext cx="6248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rces between the particles in liquids are weaker than the forces between the particles in a soli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594800" y="633240"/>
            <a:ext cx="6163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 of Liqui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3520" y="3089160"/>
            <a:ext cx="6705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me temperature increase usually causes liquids to expand much more than sol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05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056"/>
          <p:cNvSpPr/>
          <p:nvPr/>
        </p:nvSpPr>
        <p:spPr>
          <a:xfrm>
            <a:off x="533520" y="11430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tion of the particles in matter is described by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kinetic the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mat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2057"/>
          <p:cNvSpPr/>
          <p:nvPr/>
        </p:nvSpPr>
        <p:spPr>
          <a:xfrm>
            <a:off x="533520" y="2057400"/>
            <a:ext cx="32004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er is composed of particles that are atoms, molecules, or ions that always are in random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058"/>
          <p:cNvSpPr/>
          <p:nvPr/>
        </p:nvSpPr>
        <p:spPr>
          <a:xfrm>
            <a:off x="1597320" y="633240"/>
            <a:ext cx="511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Kinetic Theory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2059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2061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2600" y="1685880"/>
            <a:ext cx="393480" cy="36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64" descr="MAC OSX sm button"/>
          <p:cNvPicPr/>
          <p:nvPr/>
        </p:nvPicPr>
        <p:blipFill>
          <a:blip r:embed="rId3"/>
          <a:stretch/>
        </p:blipFill>
        <p:spPr>
          <a:xfrm>
            <a:off x="8077320" y="2050920"/>
            <a:ext cx="672840" cy="3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cmFlash320"/>
          <p:cNvGraphicFramePr/>
          <p:nvPr/>
        </p:nvGraphicFramePr>
        <p:xfrm>
          <a:off x="3809880" y="2438280"/>
          <a:ext cx="4572000" cy="339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cmFlash3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438280"/>
                    <a:ext cx="457200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533520" y="1413000"/>
            <a:ext cx="6933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gas, the forces between particles are much weaker than they are in liquid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595160" y="63324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 of G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3520" y="3070080"/>
            <a:ext cx="7010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expand even more than liquids for the same increase 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93640" y="1447920"/>
            <a:ext cx="82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 is a state of matter consisting of positively and negatively charged particles that exists where the temperature is extremely hig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600120" y="3398760"/>
            <a:ext cx="267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Plas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Sol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93640" y="155412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Plasma is found in the Sun, stars, lightning bolts and neon ligh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758240" y="831960"/>
            <a:ext cx="2047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593640" y="15541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__________ materials have a specific type of geometric arran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598320" y="3276720"/>
            <a:ext cx="252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gase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in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sol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609480" y="1722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D. The particles in most solids align themselves in ordered geometric patter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760040" y="9144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93640" y="144792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energy required to change 1 kg of a substance from a solid to a liquid at its melting point is known as the 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598320" y="3475080"/>
            <a:ext cx="4507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heat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heat of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heat of mel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heat of vap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93640" y="155412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rrect answer is B. Heat of fusion causes an ice cube to become liquid wa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Ways to Transfer 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ransfer of thermal energy between colliding particles is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ndu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11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0480" y="2781360"/>
            <a:ext cx="393840" cy="3682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2"/>
          <p:cNvSpPr/>
          <p:nvPr/>
        </p:nvSpPr>
        <p:spPr>
          <a:xfrm>
            <a:off x="533520" y="33940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energy is transferred when these faster-moving atoms collide with slower-moving partic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1568520" y="1471680"/>
            <a:ext cx="277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Conduc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14731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te at which thermal energy is transferred depends on the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3520" y="2631960"/>
            <a:ext cx="6629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terial in which thermal energy is transferred easily is called a thermal condu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33520" y="430848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are poorer thermal conductors than solids or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533520" y="148896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nve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transfer of thermal energy in a fluid by the movement of fluid from place to p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33520" y="31273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luid expands as its temperature in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33520" y="39085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nsity of the fluid therefore de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30800" y="2471760"/>
            <a:ext cx="3934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2"/>
          <p:cNvSpPr/>
          <p:nvPr/>
        </p:nvSpPr>
        <p:spPr>
          <a:xfrm>
            <a:off x="533520" y="137484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substance is a measure of the average kinetic energy of its particle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533520" y="305100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 unit for temperature i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Kelv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1596240" y="633240"/>
            <a:ext cx="2769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2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23446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9" descr="MiddleSchoolAudi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35160" y="358128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33520" y="1488960"/>
            <a:ext cx="6172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rmer water is less dense and is forced upward by the sinking cooler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533520" y="31654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rm water transfers thermal energy to the cooler water around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" descr="p267 figure 14"/>
          <p:cNvPicPr/>
          <p:nvPr/>
        </p:nvPicPr>
        <p:blipFill>
          <a:blip r:embed="rId1"/>
          <a:stretch/>
        </p:blipFill>
        <p:spPr>
          <a:xfrm>
            <a:off x="5794200" y="2438280"/>
            <a:ext cx="2892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533520" y="1469880"/>
            <a:ext cx="5257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warm water cools, it becomes denser than the surrounding water and sin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33520" y="308916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ising and sinking water forms a convection curr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9" descr="p267 figure 14"/>
          <p:cNvPicPr/>
          <p:nvPr/>
        </p:nvPicPr>
        <p:blipFill>
          <a:blip r:embed="rId1"/>
          <a:stretch/>
        </p:blipFill>
        <p:spPr>
          <a:xfrm>
            <a:off x="5794200" y="2438280"/>
            <a:ext cx="2892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33520" y="1488960"/>
            <a:ext cx="6553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Radi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transfer of energy by electromagnetic w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33520" y="27082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tion can pass through solids, liquids, and gases, but the transfer of energy by radiation is most important in g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7480" y="203688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1508040"/>
            <a:ext cx="53337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adiation strikes a material, some energy is absorbed, some is reflected, and some may be transmitted through the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p269 figure 16"/>
          <p:cNvPicPr/>
          <p:nvPr/>
        </p:nvPicPr>
        <p:blipFill>
          <a:blip r:embed="rId1"/>
          <a:stretch/>
        </p:blipFill>
        <p:spPr>
          <a:xfrm>
            <a:off x="4876920" y="723960"/>
            <a:ext cx="34574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Insu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33520" y="150804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terial in which thermal energy moves slowly is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hermal insula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533520" y="26892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erials that are good conductors of thermal energy, such as metals are poor thermal insul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26280" y="204804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593640" y="155412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difference between conduction and convec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09480" y="129528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ion transfers thermal energy without transferring matter. In convection, the more energetic particles move from one place to ano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760040" y="6858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Picture 10" descr="p267 figure 14"/>
          <p:cNvPicPr/>
          <p:nvPr/>
        </p:nvPicPr>
        <p:blipFill>
          <a:blip r:embed="rId1"/>
          <a:stretch/>
        </p:blipFill>
        <p:spPr>
          <a:xfrm>
            <a:off x="5057640" y="685800"/>
            <a:ext cx="3413160" cy="41148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1"/>
          <p:cNvSpPr/>
          <p:nvPr/>
        </p:nvSpPr>
        <p:spPr>
          <a:xfrm>
            <a:off x="5029200" y="478944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on currents result when heated fluid rises and cooler fluid sink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93640" y="1447920"/>
            <a:ext cx="672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 is the transfer of energy by electromagnetic w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176004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593640" y="3962520"/>
            <a:ext cx="717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ansfer of energy by electromagnetic waves is radiation. Radiation is how Earth gets heat from the Su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593640" y="1447920"/>
            <a:ext cx="733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he least effective insulator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598320" y="3124080"/>
            <a:ext cx="275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fiberg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me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w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593640" y="154296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Metals are good conductors of heat. And heat flows more rapidly in th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parison of Temperature Scal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899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renhei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Celsi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Kelv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p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.t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.p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s 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45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-2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degree measure of Celsius is equal to one degree measure of Kelv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570320" y="685800"/>
            <a:ext cx="7012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First Law of Thermodynam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3520" y="1219320"/>
            <a:ext cx="80769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rding to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first law of thermo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the increase in thermal energy of a system equals the work done on the system plus the thermal energy transferred to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33520" y="3479760"/>
            <a:ext cx="3962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 in energy of a system equals the energy added to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63760" y="307656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p274 figure 20"/>
          <p:cNvPicPr/>
          <p:nvPr/>
        </p:nvPicPr>
        <p:blipFill>
          <a:blip r:embed="rId3"/>
          <a:stretch/>
        </p:blipFill>
        <p:spPr>
          <a:xfrm>
            <a:off x="4794120" y="3048120"/>
            <a:ext cx="2901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7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568880" y="685800"/>
            <a:ext cx="5225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losed and Open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14889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ystem is an open system if thermal energy flows across the boundary or if work is done across the bounda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33520" y="3165480"/>
            <a:ext cx="7086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no thermal energy flows across the boundary and no outside work is done, the system is a closed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0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542960" y="685800"/>
            <a:ext cx="56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Second Law of Thermodynam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33520" y="2022480"/>
            <a:ext cx="7391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econd law of thermo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tes it is impossible for thermal energy to flow from a cool object to a warmer object unless work is do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6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5480" y="342900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542960" y="685800"/>
            <a:ext cx="56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rting Thermal Energy to 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33520" y="2022480"/>
            <a:ext cx="6629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device or process can convert thermal energy completely into wor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0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162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kinetic and potential energies of all the particles in an object i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hermal energ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object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520" y="2701800"/>
            <a:ext cx="35049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 in an object’s speed doesn’t affect the random motion of its particles, so it doesn’t affect its thermal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596240" y="633240"/>
            <a:ext cx="3417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1360" y="218916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p256 figure 2"/>
          <p:cNvPicPr/>
          <p:nvPr/>
        </p:nvPicPr>
        <p:blipFill>
          <a:blip r:embed="rId3"/>
          <a:stretch/>
        </p:blipFill>
        <p:spPr>
          <a:xfrm>
            <a:off x="4114800" y="30160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44792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rmal energy that flows from something at a higher temperature to something at a lower temperatur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307008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is a form of energy, so it is measured in jo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95880" y="633240"/>
            <a:ext cx="111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16800" y="2427120"/>
            <a:ext cx="393480" cy="3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290600"/>
            <a:ext cx="4572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thermal energy needed to raise the temperature of 1 kg of some material by 1°C is called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pecific h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materia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3520" y="4098960"/>
            <a:ext cx="4114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heat is measured in joules per kilogram per degree Cels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596600" y="633240"/>
            <a:ext cx="2756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5812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p257 table 1"/>
          <p:cNvPicPr/>
          <p:nvPr/>
        </p:nvPicPr>
        <p:blipFill>
          <a:blip r:embed="rId3"/>
          <a:stretch/>
        </p:blipFill>
        <p:spPr>
          <a:xfrm>
            <a:off x="5143680" y="1600200"/>
            <a:ext cx="361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595520" y="633240"/>
            <a:ext cx="570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nges in 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0" descr="eq 6"/>
          <p:cNvPicPr/>
          <p:nvPr/>
        </p:nvPicPr>
        <p:blipFill>
          <a:blip r:embed="rId1"/>
          <a:stretch/>
        </p:blipFill>
        <p:spPr>
          <a:xfrm>
            <a:off x="457200" y="1771560"/>
            <a:ext cx="82296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5:26:19Z</dcterms:created>
  <dc:creator>Cherie Hatton</dc:creator>
  <dc:description/>
  <dc:language>en-US</dc:language>
  <cp:lastModifiedBy>Lee, Charles - HS Chemistry/Physics Teacher</cp:lastModifiedBy>
  <dcterms:modified xsi:type="dcterms:W3CDTF">2015-10-29T15:14:43Z</dcterms:modified>
  <cp:revision>505</cp:revision>
  <dc:subject/>
  <dc:title>Slide 1</dc:title>
</cp:coreProperties>
</file>