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9" descr="NEWPhysical Backgroun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8" descr="help button"/>
          <p:cNvPicPr/>
          <p:nvPr/>
        </p:nvPicPr>
        <p:blipFill>
          <a:blip r:embed="rId3"/>
          <a:stretch/>
        </p:blipFill>
        <p:spPr>
          <a:xfrm>
            <a:off x="457200" y="6292800"/>
            <a:ext cx="457200" cy="4381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0" descr="chapter resources"/>
          <p:cNvPicPr/>
          <p:nvPr/>
        </p:nvPicPr>
        <p:blipFill>
          <a:blip r:embed="rId4"/>
          <a:stretch/>
        </p:blipFill>
        <p:spPr>
          <a:xfrm>
            <a:off x="1682640" y="6372360"/>
            <a:ext cx="1676520" cy="30312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1" descr="back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4038480" y="6343560"/>
            <a:ext cx="300240" cy="3049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22" descr="home"/>
          <p:cNvPicPr/>
          <p:nvPr/>
        </p:nvPicPr>
        <p:blipFill>
          <a:blip r:embed="rId6"/>
          <a:stretch/>
        </p:blipFill>
        <p:spPr>
          <a:xfrm>
            <a:off x="4414680" y="6345360"/>
            <a:ext cx="304920" cy="3031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3" descr="next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4795920" y="6343560"/>
            <a:ext cx="304560" cy="3002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25" descr="end"/>
          <p:cNvPicPr/>
          <p:nvPr/>
        </p:nvPicPr>
        <p:blipFill>
          <a:blip r:embed="rId8"/>
          <a:stretch/>
        </p:blipFill>
        <p:spPr>
          <a:xfrm>
            <a:off x="8215200" y="6286680"/>
            <a:ext cx="486000" cy="44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07.wav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08.wav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09.wav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01.wav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10.wav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11.wav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02.wav" TargetMode="External"/><Relationship Id="rId2" Type="http://schemas.openxmlformats.org/officeDocument/2006/relationships/image" Target="../media/image9.jpeg"/><Relationship Id="rId3" Type="http://schemas.openxmlformats.org/officeDocument/2006/relationships/hyperlink" Target="file:///tmp/home/.config/libreoffice/4/user/gallery/708_03.wav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12.wav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13.wav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14.wav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15.wav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04.wav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05.wav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06.wav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6" descr="GPE_SE-smaller"/>
          <p:cNvPicPr/>
          <p:nvPr/>
        </p:nvPicPr>
        <p:blipFill>
          <a:blip r:embed="rId1"/>
          <a:stretch/>
        </p:blipFill>
        <p:spPr>
          <a:xfrm>
            <a:off x="2666880" y="685800"/>
            <a:ext cx="40244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533520" y="1282680"/>
            <a:ext cx="35812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pecific heat of a material can be measured using a device called a calorimeter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533520" y="3660840"/>
            <a:ext cx="365760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a calorimeter, a heated sample transfers thermal energy to a known mass of wa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1596960" y="633240"/>
            <a:ext cx="4978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Measuring Specific He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2186280" y="0"/>
            <a:ext cx="4771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emperature and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9" descr="p259 figure 4"/>
          <p:cNvPicPr/>
          <p:nvPr/>
        </p:nvPicPr>
        <p:blipFill>
          <a:blip r:embed="rId1"/>
          <a:stretch/>
        </p:blipFill>
        <p:spPr>
          <a:xfrm>
            <a:off x="4191120" y="1447920"/>
            <a:ext cx="453852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596960" y="633240"/>
            <a:ext cx="4978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Measuring Specific He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2186280" y="0"/>
            <a:ext cx="4771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emperature and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533520" y="1469880"/>
            <a:ext cx="3429000" cy="31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thermal energy released by the sample is equal to the thermal energy absorbed by the wa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9" descr="p259 figure 4"/>
          <p:cNvPicPr/>
          <p:nvPr/>
        </p:nvPicPr>
        <p:blipFill>
          <a:blip r:embed="rId1"/>
          <a:stretch/>
        </p:blipFill>
        <p:spPr>
          <a:xfrm>
            <a:off x="4191120" y="1447920"/>
            <a:ext cx="453852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3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Question 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593640" y="1554120"/>
            <a:ext cx="778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is temperature related to kinetic energy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09480" y="1163520"/>
            <a:ext cx="8153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mperature is a measure of the average kinetic energy of the particles in an object or material. As the temperature increases, the average speed of the particles increas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1760040" y="65412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10" descr="p256 figure 2"/>
          <p:cNvPicPr/>
          <p:nvPr/>
        </p:nvPicPr>
        <p:blipFill>
          <a:blip r:embed="rId1"/>
          <a:stretch/>
        </p:blipFill>
        <p:spPr>
          <a:xfrm>
            <a:off x="2133720" y="3168720"/>
            <a:ext cx="487656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Question 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593640" y="1523880"/>
            <a:ext cx="6416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es thermal energy differ from kinetic energy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1760040" y="337644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593640" y="4145040"/>
            <a:ext cx="7940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mal energy is the sum of the kinetic and potential energy of all the particles in an objec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Question 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593640" y="1447920"/>
            <a:ext cx="7940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mount of heat that is needed to raise the temperature of 1 kg of a material by 1º C is called the __________ of the material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600120" y="3368520"/>
            <a:ext cx="4124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ns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 specific h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 thermal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760040" y="78588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593640" y="1542960"/>
            <a:ext cx="763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nswer is C. Specific heat is measured in joules/kilogram °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533520" y="2003400"/>
            <a:ext cx="373356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articles of a solid are packed closely together and are constantly vibrating in plac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1596240" y="633240"/>
            <a:ext cx="44082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Four States of Mat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533520" y="4518000"/>
            <a:ext cx="80769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ttractions between particles are strong and solids have a fixed volume and shap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1620720" y="131904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Solid Sta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15" descr="p260 figure 5 square"/>
          <p:cNvPicPr/>
          <p:nvPr/>
        </p:nvPicPr>
        <p:blipFill>
          <a:blip r:embed="rId1"/>
          <a:stretch/>
        </p:blipFill>
        <p:spPr>
          <a:xfrm>
            <a:off x="4495680" y="1509840"/>
            <a:ext cx="403884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5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533520" y="1430280"/>
            <a:ext cx="38098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ttractive forces are strong enough to cause particles to cling togethe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1595160" y="633240"/>
            <a:ext cx="26067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Liquid Sta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533520" y="3984480"/>
            <a:ext cx="37335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quids have a definite volume, but not a definite shap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9" descr="p260 figure 5 square"/>
          <p:cNvPicPr/>
          <p:nvPr/>
        </p:nvPicPr>
        <p:blipFill>
          <a:blip r:embed="rId1"/>
          <a:stretch/>
        </p:blipFill>
        <p:spPr>
          <a:xfrm>
            <a:off x="4495680" y="1509840"/>
            <a:ext cx="403884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533520" y="1469880"/>
            <a:ext cx="38098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a gas the forces between particles are so weak that the particles no longer cling togethe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1595520" y="633240"/>
            <a:ext cx="20476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as Sta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533520" y="4003560"/>
            <a:ext cx="36576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ses do not have a definite shape or volu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9" descr="p260 figure 5 square"/>
          <p:cNvPicPr/>
          <p:nvPr/>
        </p:nvPicPr>
        <p:blipFill>
          <a:blip r:embed="rId1"/>
          <a:stretch/>
        </p:blipFill>
        <p:spPr>
          <a:xfrm>
            <a:off x="4495680" y="1509840"/>
            <a:ext cx="403884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3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9"/>
          <p:cNvSpPr/>
          <p:nvPr/>
        </p:nvSpPr>
        <p:spPr>
          <a:xfrm>
            <a:off x="3266280" y="0"/>
            <a:ext cx="25855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Rectangle 23"/>
          <p:cNvSpPr/>
          <p:nvPr/>
        </p:nvSpPr>
        <p:spPr>
          <a:xfrm>
            <a:off x="1676520" y="60948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hapter: Heat and St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cca22"/>
                </a:solidFill>
                <a:latin typeface="Times New Roman"/>
              </a:rPr>
              <a:t>of </a:t>
            </a: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Mat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Rectangle 24"/>
          <p:cNvSpPr/>
          <p:nvPr/>
        </p:nvSpPr>
        <p:spPr>
          <a:xfrm>
            <a:off x="1803240" y="3306600"/>
            <a:ext cx="642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fbfb"/>
                </a:solidFill>
                <a:latin typeface="Times New Roman"/>
              </a:rPr>
              <a:t>Section 2:  States of Mat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Rectangle 25"/>
          <p:cNvSpPr/>
          <p:nvPr/>
        </p:nvSpPr>
        <p:spPr>
          <a:xfrm>
            <a:off x="1803240" y="1981080"/>
            <a:ext cx="617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fbfb"/>
                </a:solidFill>
                <a:latin typeface="Times New Roman"/>
              </a:rPr>
              <a:t>Section 1: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mperature and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mal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Rectangle 26"/>
          <p:cNvSpPr/>
          <p:nvPr/>
        </p:nvSpPr>
        <p:spPr>
          <a:xfrm>
            <a:off x="1800360" y="4205160"/>
            <a:ext cx="681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fbfb"/>
                </a:solidFill>
                <a:latin typeface="Times New Roman"/>
              </a:rPr>
              <a:t>Section 3:  Transferring Thermal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Rectangle 27"/>
          <p:cNvSpPr/>
          <p:nvPr/>
        </p:nvSpPr>
        <p:spPr>
          <a:xfrm>
            <a:off x="1800360" y="4983120"/>
            <a:ext cx="642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fbfb"/>
                </a:solidFill>
                <a:latin typeface="Times New Roman"/>
              </a:rPr>
              <a:t>Section 4:  Using Thermal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533520" y="1374840"/>
            <a:ext cx="64008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ost common state of matter in the universe is the plasma stat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595520" y="633240"/>
            <a:ext cx="27075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Plasma Sta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533520" y="2631960"/>
            <a:ext cx="76197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Plasm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matter consisting of positively and negatively charged particles and does not have a definite shape or volu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7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97680" y="3603600"/>
            <a:ext cx="39384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533520" y="2308320"/>
            <a:ext cx="72388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temperature at which a solid begins to melt is its melting poin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1594440" y="633240"/>
            <a:ext cx="33703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hanging St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533520" y="3470400"/>
            <a:ext cx="74674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mount of energy required to change 1 kg of a substance from a solid to a liquid at its melting point is known as the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heat of fus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602720" y="1471680"/>
            <a:ext cx="17031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Mel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8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54280" y="4878360"/>
            <a:ext cx="39384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5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33520" y="1447920"/>
            <a:ext cx="74674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heat of fusion is also the energy released when a liquid freez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1596600" y="633240"/>
            <a:ext cx="18799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Freez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533520" y="2689200"/>
            <a:ext cx="8153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ttractive forces are strong enough that the particles form an ordered arrange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0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533520" y="1447920"/>
            <a:ext cx="71625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porization occurs as liquid changes into a ga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1595520" y="633240"/>
            <a:ext cx="2745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Vaporiz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533520" y="2689200"/>
            <a:ext cx="70866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porization that occurs at the surface of a liquid is called evapor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530280" y="3908520"/>
            <a:ext cx="67086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aporation causes the temperature of the liquid to decrea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3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533520" y="1432080"/>
            <a:ext cx="80769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iling point of a liquid is the temperature at which the pressure of the vapor in the liquid is equal to the external pressure acting on its surfac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1595880" y="633240"/>
            <a:ext cx="15768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Boil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533520" y="3470400"/>
            <a:ext cx="73152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heat of vaporiz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the amount of energy required for 1 kg of the liquid at its boiling point to become a g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Picture 7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5400" y="4448160"/>
            <a:ext cx="39348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0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533520" y="1285920"/>
            <a:ext cx="7848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heat of vaporization is also the amount of energy released during condensatio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1594440" y="633240"/>
            <a:ext cx="28753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ondens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533520" y="2346480"/>
            <a:ext cx="3047760" cy="31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graph shows the temperature change of water as thermal energy is add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Picture 9" descr="p263 graph"/>
          <p:cNvPicPr/>
          <p:nvPr/>
        </p:nvPicPr>
        <p:blipFill>
          <a:blip r:embed="rId1"/>
          <a:stretch/>
        </p:blipFill>
        <p:spPr>
          <a:xfrm>
            <a:off x="3962520" y="2587680"/>
            <a:ext cx="464796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0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6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533520" y="1413000"/>
            <a:ext cx="69339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verage kinetic energy of the water molecules doesn’t chang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1594440" y="633240"/>
            <a:ext cx="28753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ondens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533520" y="2631960"/>
            <a:ext cx="3429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temperature remains constant during melt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Picture 9" descr="p263 graph"/>
          <p:cNvPicPr/>
          <p:nvPr/>
        </p:nvPicPr>
        <p:blipFill>
          <a:blip r:embed="rId1"/>
          <a:stretch/>
        </p:blipFill>
        <p:spPr>
          <a:xfrm>
            <a:off x="3962520" y="2587680"/>
            <a:ext cx="464796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0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2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1594440" y="633240"/>
            <a:ext cx="28753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ondens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Picture 8" descr="p263 graph"/>
          <p:cNvPicPr/>
          <p:nvPr/>
        </p:nvPicPr>
        <p:blipFill>
          <a:blip r:embed="rId1"/>
          <a:stretch/>
        </p:blipFill>
        <p:spPr>
          <a:xfrm>
            <a:off x="3962520" y="2587680"/>
            <a:ext cx="4647960" cy="3279600"/>
          </a:xfrm>
          <a:prstGeom prst="rect">
            <a:avLst/>
          </a:prstGeom>
          <a:ln w="0">
            <a:noFill/>
          </a:ln>
        </p:spPr>
      </p:pic>
      <p:grpSp>
        <p:nvGrpSpPr>
          <p:cNvPr id="192" name="Group 11"/>
          <p:cNvGrpSpPr/>
          <p:nvPr/>
        </p:nvGrpSpPr>
        <p:grpSpPr>
          <a:xfrm>
            <a:off x="533520" y="1459080"/>
            <a:ext cx="6858000" cy="2312640"/>
            <a:chOff x="533520" y="1459080"/>
            <a:chExt cx="6858000" cy="2312640"/>
          </a:xfrm>
        </p:grpSpPr>
        <p:sp>
          <p:nvSpPr>
            <p:cNvPr id="193" name="Text Box 7"/>
            <p:cNvSpPr/>
            <p:nvPr/>
          </p:nvSpPr>
          <p:spPr>
            <a:xfrm>
              <a:off x="533520" y="2362320"/>
              <a:ext cx="3429000" cy="14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28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tabLst>
                  <a:tab algn="l" pos="0"/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of the gas increases as energy is added.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Text Box 9"/>
            <p:cNvSpPr/>
            <p:nvPr/>
          </p:nvSpPr>
          <p:spPr>
            <a:xfrm>
              <a:off x="533520" y="1459080"/>
              <a:ext cx="685800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buClr>
                  <a:srgbClr val="ffffff"/>
                </a:buClr>
                <a:buFont typeface="Times New Roman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After the liquid water has changed completely into a gas, the temperatur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0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533520" y="1957320"/>
            <a:ext cx="74674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creased separation between the particles results in the expansion of the object and the size of the object increas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1595160" y="633240"/>
            <a:ext cx="40546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rmal Expans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533520" y="347040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a material cools, the particles in the material move more slowly and become closer toge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1594440" y="1319040"/>
            <a:ext cx="69105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 Thermal Expansion of Mat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0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5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533520" y="1424160"/>
            <a:ext cx="62481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orces between the particles in liquids are weaker than the forces between the particles in a soli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1594800" y="633240"/>
            <a:ext cx="61639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rmal Expansion of Liqui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533520" y="3089160"/>
            <a:ext cx="67053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ame temperature increase usually causes liquids to expand much more than soli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0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7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054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Text Box 2056"/>
          <p:cNvSpPr/>
          <p:nvPr/>
        </p:nvSpPr>
        <p:spPr>
          <a:xfrm>
            <a:off x="533520" y="1143000"/>
            <a:ext cx="7772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otion of the particles in matter is described by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kinetic theo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matter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Text Box 2057"/>
          <p:cNvSpPr/>
          <p:nvPr/>
        </p:nvSpPr>
        <p:spPr>
          <a:xfrm>
            <a:off x="533520" y="2057400"/>
            <a:ext cx="320040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tter is composed of particles that are atoms, molecules, or ions that always are in random mo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2058"/>
          <p:cNvSpPr/>
          <p:nvPr/>
        </p:nvSpPr>
        <p:spPr>
          <a:xfrm>
            <a:off x="1597320" y="633240"/>
            <a:ext cx="51170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Kinetic Theory of Mat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Text Box 2059"/>
          <p:cNvSpPr/>
          <p:nvPr/>
        </p:nvSpPr>
        <p:spPr>
          <a:xfrm>
            <a:off x="2186280" y="0"/>
            <a:ext cx="4771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emperature and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Picture 2061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02600" y="1685880"/>
            <a:ext cx="393480" cy="368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064" descr="MAC OSX sm button"/>
          <p:cNvPicPr/>
          <p:nvPr/>
        </p:nvPicPr>
        <p:blipFill>
          <a:blip r:embed="rId3"/>
          <a:stretch/>
        </p:blipFill>
        <p:spPr>
          <a:xfrm>
            <a:off x="8077320" y="2050920"/>
            <a:ext cx="672840" cy="32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" name="cmFlash320"/>
          <p:cNvGraphicFramePr/>
          <p:nvPr/>
        </p:nvGraphicFramePr>
        <p:xfrm>
          <a:off x="3809880" y="2438280"/>
          <a:ext cx="4572000" cy="3391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" name="cmFlash32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9880" y="2438280"/>
                    <a:ext cx="4572000" cy="339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533520" y="1413000"/>
            <a:ext cx="69339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a gas, the forces between particles are much weaker than they are in liquid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1595160" y="633240"/>
            <a:ext cx="58071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rmal Expansion of Ga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Text Box 10"/>
          <p:cNvSpPr/>
          <p:nvPr/>
        </p:nvSpPr>
        <p:spPr>
          <a:xfrm>
            <a:off x="533520" y="3070080"/>
            <a:ext cx="7010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ses expand even more than liquids for the same increase in temperat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0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9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Question 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93640" y="1447920"/>
            <a:ext cx="824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_________ is a state of matter consisting of positively and negatively charged particles that exists where the temperature is extremely high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600120" y="3398760"/>
            <a:ext cx="2676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 G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 Liqu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 Plas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 Soli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0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1760040" y="78588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593640" y="1554120"/>
            <a:ext cx="748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nswer is C. Plasma is found in the Sun, stars, lightning bolts and neon light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0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1758240" y="831960"/>
            <a:ext cx="20476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cca22"/>
                </a:solidFill>
                <a:latin typeface="Times New Roman"/>
              </a:rPr>
              <a:t>Question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593640" y="1554120"/>
            <a:ext cx="75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__________ materials have a specific type of geometric arrangemen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Text Box 15"/>
          <p:cNvSpPr/>
          <p:nvPr/>
        </p:nvSpPr>
        <p:spPr>
          <a:xfrm>
            <a:off x="598320" y="3276720"/>
            <a:ext cx="2525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 gaseo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 ine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 liqu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 soli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0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609480" y="172260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nswer is D. The particles in most solids align themselves in ordered geometric pattern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1760040" y="91440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0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Question 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593640" y="1447920"/>
            <a:ext cx="7940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mount of energy required to change 1 kg of a substance from a solid to a liquid at its melting point is known as the _______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Text Box 13"/>
          <p:cNvSpPr/>
          <p:nvPr/>
        </p:nvSpPr>
        <p:spPr>
          <a:xfrm>
            <a:off x="598320" y="3475080"/>
            <a:ext cx="4507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 heat of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 heat of fu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 heat of mel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 heat of vapor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0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1760040" y="78588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593640" y="1554120"/>
            <a:ext cx="7788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rrect answer is B. Heat of fusion causes an ice cube to become liquid wate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0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6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1568520" y="685800"/>
            <a:ext cx="7118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Ways to Transfer Thermal Ener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ext Box 9"/>
          <p:cNvSpPr/>
          <p:nvPr/>
        </p:nvSpPr>
        <p:spPr>
          <a:xfrm>
            <a:off x="533520" y="223524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transfer of thermal energy between colliding particles is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conduc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ext Box 10"/>
          <p:cNvSpPr/>
          <p:nvPr/>
        </p:nvSpPr>
        <p:spPr>
          <a:xfrm>
            <a:off x="2534040" y="0"/>
            <a:ext cx="4075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ransferring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2" name="Picture 11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40480" y="2781360"/>
            <a:ext cx="393840" cy="36828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12"/>
          <p:cNvSpPr/>
          <p:nvPr/>
        </p:nvSpPr>
        <p:spPr>
          <a:xfrm>
            <a:off x="533520" y="339408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netic energy is transferred when these faster-moving atoms collide with slower-moving partic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Text Box 13"/>
          <p:cNvSpPr/>
          <p:nvPr/>
        </p:nvSpPr>
        <p:spPr>
          <a:xfrm>
            <a:off x="1568520" y="1471680"/>
            <a:ext cx="2774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ondu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0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1568520" y="685800"/>
            <a:ext cx="7118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rmal Conduct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533520" y="14731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rate at which thermal energy is transferred depends on the materi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2534040" y="0"/>
            <a:ext cx="4075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ransferring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533520" y="2631960"/>
            <a:ext cx="6629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material in which thermal energy is transferred easily is called a thermal conduct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533520" y="4308480"/>
            <a:ext cx="71625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ses are poorer thermal conductors than solids or liqui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nodeType="clickEffect" fill="hold">
                      <p:stCondLst>
                        <p:cond delay="0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1568520" y="685800"/>
            <a:ext cx="7118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onve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533520" y="1488960"/>
            <a:ext cx="74674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Convec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the transfer of thermal energy in a fluid by the movement of fluid from place to pla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2534040" y="0"/>
            <a:ext cx="4075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ransferring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533520" y="3127320"/>
            <a:ext cx="8001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fluid expands as its temperature increas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Text Box 7"/>
          <p:cNvSpPr/>
          <p:nvPr/>
        </p:nvSpPr>
        <p:spPr>
          <a:xfrm>
            <a:off x="533520" y="3908520"/>
            <a:ext cx="8001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density of the fluid therefore decreas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7" name="Picture 8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30800" y="2471760"/>
            <a:ext cx="39348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0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2"/>
          <p:cNvSpPr/>
          <p:nvPr/>
        </p:nvSpPr>
        <p:spPr>
          <a:xfrm>
            <a:off x="533520" y="1374840"/>
            <a:ext cx="67816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temperatur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a substance is a measure of the average kinetic energy of its particles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 Box 23"/>
          <p:cNvSpPr/>
          <p:nvPr/>
        </p:nvSpPr>
        <p:spPr>
          <a:xfrm>
            <a:off x="533520" y="3051000"/>
            <a:ext cx="71625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I unit for temperature is the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Kelvi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K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24"/>
          <p:cNvSpPr/>
          <p:nvPr/>
        </p:nvSpPr>
        <p:spPr>
          <a:xfrm>
            <a:off x="1596240" y="633240"/>
            <a:ext cx="27698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emperatu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25"/>
          <p:cNvSpPr/>
          <p:nvPr/>
        </p:nvSpPr>
        <p:spPr>
          <a:xfrm>
            <a:off x="2186280" y="0"/>
            <a:ext cx="4771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emperature and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Picture 28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92360" y="2344680"/>
            <a:ext cx="393840" cy="368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9" descr="MiddleSchoolAudi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35160" y="3581280"/>
            <a:ext cx="39384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1568520" y="685800"/>
            <a:ext cx="7118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onve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533520" y="1488960"/>
            <a:ext cx="61722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warmer water is less dense and is forced upward by the sinking cooler wa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2534040" y="0"/>
            <a:ext cx="4075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ransferring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533520" y="3165480"/>
            <a:ext cx="51051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warm water transfers thermal energy to the cooler water around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3" name="Picture 10" descr="p267 figure 14"/>
          <p:cNvPicPr/>
          <p:nvPr/>
        </p:nvPicPr>
        <p:blipFill>
          <a:blip r:embed="rId1"/>
          <a:stretch/>
        </p:blipFill>
        <p:spPr>
          <a:xfrm>
            <a:off x="5794200" y="2438280"/>
            <a:ext cx="289260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0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1568520" y="685800"/>
            <a:ext cx="7118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onve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2534040" y="0"/>
            <a:ext cx="4075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ransferring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Text Box 7"/>
          <p:cNvSpPr/>
          <p:nvPr/>
        </p:nvSpPr>
        <p:spPr>
          <a:xfrm>
            <a:off x="533520" y="1469880"/>
            <a:ext cx="52578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the warm water cools, it becomes denser than the surrounding water and sink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Text Box 8"/>
          <p:cNvSpPr/>
          <p:nvPr/>
        </p:nvSpPr>
        <p:spPr>
          <a:xfrm>
            <a:off x="533520" y="3089160"/>
            <a:ext cx="51051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rising and sinking water forms a convection curr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Picture 9" descr="p267 figure 14"/>
          <p:cNvPicPr/>
          <p:nvPr/>
        </p:nvPicPr>
        <p:blipFill>
          <a:blip r:embed="rId1"/>
          <a:stretch/>
        </p:blipFill>
        <p:spPr>
          <a:xfrm>
            <a:off x="5794200" y="2438280"/>
            <a:ext cx="289260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0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1568520" y="685800"/>
            <a:ext cx="7118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Radi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533520" y="1488960"/>
            <a:ext cx="6553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Radi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the transfer of energy by electromagnetic wav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2534040" y="0"/>
            <a:ext cx="4075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ransferring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533520" y="270828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diation can pass through solids, liquids, and gases, but the transfer of energy by radiation is most important in gas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5" name="Picture 7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7480" y="2036880"/>
            <a:ext cx="39384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0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1568520" y="685800"/>
            <a:ext cx="7118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Radi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2534040" y="0"/>
            <a:ext cx="4075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ransferring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533520" y="1508040"/>
            <a:ext cx="533376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radiation strikes a material, some energy is absorbed, some is reflected, and some may be transmitted through the materi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" name="Picture 7" descr="p269 figure 16"/>
          <p:cNvPicPr/>
          <p:nvPr/>
        </p:nvPicPr>
        <p:blipFill>
          <a:blip r:embed="rId1"/>
          <a:stretch/>
        </p:blipFill>
        <p:spPr>
          <a:xfrm>
            <a:off x="4876920" y="723960"/>
            <a:ext cx="345744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nodeType="clickEffect" fill="hold">
                      <p:stCondLst>
                        <p:cond delay="0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1568520" y="685800"/>
            <a:ext cx="7118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rmal Insulat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2534040" y="0"/>
            <a:ext cx="4075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ransferring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533520" y="1508040"/>
            <a:ext cx="73152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material in which thermal energy moves slowly is a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thermal insulato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Text Box 6"/>
          <p:cNvSpPr/>
          <p:nvPr/>
        </p:nvSpPr>
        <p:spPr>
          <a:xfrm>
            <a:off x="533520" y="2689200"/>
            <a:ext cx="75438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terials that are good conductors of thermal energy, such as metals are poor thermal insulat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Picture 7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26280" y="2048040"/>
            <a:ext cx="39384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0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Question 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593640" y="1554120"/>
            <a:ext cx="748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cribe the difference between conduction and convectio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0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609480" y="1295280"/>
            <a:ext cx="4191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duction transfers thermal energy without transferring matter. In convection, the more energetic particles move from one place to anothe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Text Box 7"/>
          <p:cNvSpPr/>
          <p:nvPr/>
        </p:nvSpPr>
        <p:spPr>
          <a:xfrm>
            <a:off x="1760040" y="68580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5" name="Picture 10" descr="p267 figure 14"/>
          <p:cNvPicPr/>
          <p:nvPr/>
        </p:nvPicPr>
        <p:blipFill>
          <a:blip r:embed="rId1"/>
          <a:stretch/>
        </p:blipFill>
        <p:spPr>
          <a:xfrm>
            <a:off x="5057640" y="685800"/>
            <a:ext cx="3413160" cy="411480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11"/>
          <p:cNvSpPr/>
          <p:nvPr/>
        </p:nvSpPr>
        <p:spPr>
          <a:xfrm>
            <a:off x="5029200" y="478944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vection currents result when heated fluid rises and cooler fluid sink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nodeType="clickEffect" fill="hold">
                      <p:stCondLst>
                        <p:cond delay="0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Question 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593640" y="1447920"/>
            <a:ext cx="6721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__________ is the transfer of energy by electromagnetic wav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 Box 12"/>
          <p:cNvSpPr/>
          <p:nvPr/>
        </p:nvSpPr>
        <p:spPr>
          <a:xfrm>
            <a:off x="1760040" y="330048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Text Box 13"/>
          <p:cNvSpPr/>
          <p:nvPr/>
        </p:nvSpPr>
        <p:spPr>
          <a:xfrm>
            <a:off x="593640" y="3962520"/>
            <a:ext cx="7178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transfer of energy by electromagnetic waves is radiation. Radiation is how Earth gets heat from the Su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nodeType="clickEffect" fill="hold">
                      <p:stCondLst>
                        <p:cond delay="0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Question 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593640" y="1447920"/>
            <a:ext cx="7331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following is the least effective insulator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598320" y="3124080"/>
            <a:ext cx="275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 a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 fiberg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 met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 w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nodeType="clickEffect" fill="hold">
                      <p:stCondLst>
                        <p:cond delay="0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1760040" y="78588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593640" y="1542960"/>
            <a:ext cx="7864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nswer is C. Metals are good conductors of heat. And heat flows more rapidly in the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nodeType="clickEffect" fill="hold">
                      <p:stCondLst>
                        <p:cond delay="0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omparison of Temperature Scale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320" y="1980720"/>
            <a:ext cx="899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renhei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Celsiu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Kelv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p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1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73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.t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7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2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95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.p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3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73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bs 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45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-273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e degree measure of Celsius is equal to one degree measure of Kelv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9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8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1570320" y="685800"/>
            <a:ext cx="70128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 First Law of Thermodynamic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533520" y="1219320"/>
            <a:ext cx="807696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ording to the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first law of thermodynamic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the increase in thermal energy of a system equals the work done on the system plus the thermal energy transferred to the syste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2966760" y="0"/>
            <a:ext cx="32104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Using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533520" y="3479760"/>
            <a:ext cx="39621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crease in energy of a system equals the energy added to the syste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7" name="Picture 8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63760" y="3076560"/>
            <a:ext cx="393840" cy="3682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9" descr="p274 figure 20"/>
          <p:cNvPicPr/>
          <p:nvPr/>
        </p:nvPicPr>
        <p:blipFill>
          <a:blip r:embed="rId3"/>
          <a:stretch/>
        </p:blipFill>
        <p:spPr>
          <a:xfrm>
            <a:off x="4794120" y="3048120"/>
            <a:ext cx="290196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nodeType="clickEffect" fill="hold">
                      <p:stCondLst>
                        <p:cond delay="0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1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1568880" y="685800"/>
            <a:ext cx="52250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losed and Open Syste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533520" y="1488960"/>
            <a:ext cx="76960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ystem is an open system if thermal energy flows across the boundary or if work is done across the boundary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2966760" y="0"/>
            <a:ext cx="32104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Using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533520" y="3165480"/>
            <a:ext cx="70866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no thermal energy flows across the boundary and no outside work is done, the system is a closed syste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0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3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Text Box 3"/>
          <p:cNvSpPr/>
          <p:nvPr/>
        </p:nvSpPr>
        <p:spPr>
          <a:xfrm>
            <a:off x="1542960" y="685800"/>
            <a:ext cx="56199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 Second Law of Thermodynamic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533520" y="2022480"/>
            <a:ext cx="73911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second law of thermodynamic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tates it is impossible for thermal energy to flow from a cool object to a warmer object unless work is don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Text Box 5"/>
          <p:cNvSpPr/>
          <p:nvPr/>
        </p:nvSpPr>
        <p:spPr>
          <a:xfrm>
            <a:off x="2966760" y="0"/>
            <a:ext cx="32104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Using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8" name="Picture 6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05480" y="3429000"/>
            <a:ext cx="39384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nodeType="clickEffect" fill="hold">
                      <p:stCondLst>
                        <p:cond delay="0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1542960" y="685800"/>
            <a:ext cx="56199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onverting Thermal Energy to Wor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533520" y="2022480"/>
            <a:ext cx="6629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device or process can convert thermal energy completely into work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2966760" y="0"/>
            <a:ext cx="32104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Using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nodeType="clickEffect" fill="hold">
                      <p:stCondLst>
                        <p:cond delay="0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533520" y="1219320"/>
            <a:ext cx="71625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um of the kinetic and potential energies of all the particles in an object is the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thermal energ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the object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533520" y="2701800"/>
            <a:ext cx="3504960" cy="31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crease in an object’s speed doesn’t affect the random motion of its particles, so it doesn’t affect its thermal energ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1596240" y="633240"/>
            <a:ext cx="34178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rmal Ener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2186280" y="0"/>
            <a:ext cx="4771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emperature and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Picture 8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21360" y="2189160"/>
            <a:ext cx="393840" cy="368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p256 figure 2"/>
          <p:cNvPicPr/>
          <p:nvPr/>
        </p:nvPicPr>
        <p:blipFill>
          <a:blip r:embed="rId3"/>
          <a:stretch/>
        </p:blipFill>
        <p:spPr>
          <a:xfrm>
            <a:off x="4114800" y="3016080"/>
            <a:ext cx="46483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533520" y="1447920"/>
            <a:ext cx="7772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Hea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thermal energy that flows from something at a higher temperature to something at a lower temperature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33520" y="3070080"/>
            <a:ext cx="72388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t is a form of energy, so it is measured in jou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595880" y="633240"/>
            <a:ext cx="1119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He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2186280" y="0"/>
            <a:ext cx="4771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emperature and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Picture 7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16800" y="2427120"/>
            <a:ext cx="393480" cy="3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533520" y="1290600"/>
            <a:ext cx="457200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mount of thermal energy needed to raise the temperature of 1 kg of some material by 1°C is called the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specific hea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the material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533520" y="4098960"/>
            <a:ext cx="41148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ific heat is measured in joules per kilogram per degree Celsi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1596600" y="633240"/>
            <a:ext cx="27561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Specific He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2186280" y="0"/>
            <a:ext cx="4771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emperature and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Picture 7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06760" y="3581280"/>
            <a:ext cx="393840" cy="368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p257 table 1"/>
          <p:cNvPicPr/>
          <p:nvPr/>
        </p:nvPicPr>
        <p:blipFill>
          <a:blip r:embed="rId3"/>
          <a:stretch/>
        </p:blipFill>
        <p:spPr>
          <a:xfrm>
            <a:off x="5143680" y="1600200"/>
            <a:ext cx="3619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595520" y="633240"/>
            <a:ext cx="5705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hanges in Thermal Ener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2186280" y="0"/>
            <a:ext cx="4771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emperature and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Picture 10" descr="eq 6"/>
          <p:cNvPicPr/>
          <p:nvPr/>
        </p:nvPicPr>
        <p:blipFill>
          <a:blip r:embed="rId1"/>
          <a:stretch/>
        </p:blipFill>
        <p:spPr>
          <a:xfrm>
            <a:off x="457200" y="1771560"/>
            <a:ext cx="822960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4T15:26:19Z</dcterms:created>
  <dc:creator>Cherie Hatton</dc:creator>
  <dc:description/>
  <dc:language>en-US</dc:language>
  <cp:lastModifiedBy>Lee, Charles - HS Chemistry/Physics Teacher</cp:lastModifiedBy>
  <dcterms:modified xsi:type="dcterms:W3CDTF">2015-10-29T15:14:43Z</dcterms:modified>
  <cp:revision>505</cp:revision>
  <dc:subject/>
  <dc:title>Slide 1</dc:title>
</cp:coreProperties>
</file>